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A08-827E-43E4-902A-1AAEBADA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CE7-9BF4-4369-AACF-A068BA88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9D1-EF29-46B6-85BD-6DAF733A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B75-FAF2-4658-A887-B3BEC588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DFE77-495F-46D0-8BDC-1A8CFC2DD4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2A557-BC10-4EFB-AD55-6AAFC80C9C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9F3EC-D8C9-4F80-9C10-89721F9631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2B645-5497-45CD-B55F-F83A577B30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54CFD-A0EA-4D79-B822-53FCB0C17B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35658-EBA7-428C-B0AF-FDE1EF1B94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96811-1D9C-4701-B8AE-474136A46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935-7619-434A-A91F-3120DB69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7A3F1-7A05-4BCF-9A07-490F13FC69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09816-D62E-46A1-B7AB-F5DCA360E8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CBF1B-5540-462B-A5C9-6213DA1033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A8572-1A8D-4034-817B-173946E0DF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C5F1D-15AA-447A-A0B1-C35296B6C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991-6209-41CD-97C4-F4504F67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DA6-5E07-4DCA-A6B2-8F378464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6B9-EDED-47B8-8FAF-96E5D7F8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399-2548-4790-B3DC-4362FB2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326-2077-40CE-A9E7-E84FFDD4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81E-BF77-4829-8D30-E189E527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6AB-CF2D-4B27-AB44-5BEA57ED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4D5A-196C-4743-ADD3-D62DDA868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853160" y="6400800"/>
            <a:ext cx="39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EEE 802.3ap Backplane Ethernet Task F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217440"/>
            <a:ext cx="8229600" cy="696960"/>
            <a:chOff x="228600" y="217440"/>
            <a:chExt cx="8229600" cy="696960"/>
          </a:xfrm>
        </p:grpSpPr>
        <p:pic>
          <p:nvPicPr>
            <p:cNvPr id="7" name="mx200rd%20transparent" descr=""/>
            <p:cNvPicPr/>
            <p:nvPr/>
          </p:nvPicPr>
          <p:blipFill>
            <a:blip r:embed="rId2"/>
            <a:stretch/>
          </p:blipFill>
          <p:spPr>
            <a:xfrm>
              <a:off x="228600" y="217440"/>
              <a:ext cx="91440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914400" y="838080"/>
              <a:ext cx="75438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0C63-F540-4F71-BA29-DF70B7FFE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0880" y="228600"/>
            <a:ext cx="8001000" cy="635040"/>
            <a:chOff x="380880" y="228600"/>
            <a:chExt cx="8001000" cy="635040"/>
          </a:xfrm>
        </p:grpSpPr>
        <p:pic>
          <p:nvPicPr>
            <p:cNvPr id="48" name="molex%20small%20lgo" descr="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8413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219320" y="838080"/>
              <a:ext cx="7162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422600" y="6400800"/>
            <a:ext cx="279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2004  Optical Internetworking Foru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943600" y="6248520"/>
            <a:ext cx="310356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855720"/>
            <a:ext cx="784872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-Parameter Measurements f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Backplane Ethernet Task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Brunk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.brunker@mole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urgen Oganessy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ganessyan@mole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McCall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.mccallum@molex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le, Illin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1279440" y="914400"/>
            <a:ext cx="2987280" cy="5638320"/>
            <a:chOff x="1279440" y="914400"/>
            <a:chExt cx="2987280" cy="5638320"/>
          </a:xfrm>
        </p:grpSpPr>
        <p:sp>
          <p:nvSpPr>
            <p:cNvPr id="467" name=""/>
            <p:cNvSpPr/>
            <p:nvPr/>
          </p:nvSpPr>
          <p:spPr>
            <a:xfrm>
              <a:off x="2382480" y="3769200"/>
              <a:ext cx="797040" cy="278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82480" y="914400"/>
              <a:ext cx="797040" cy="278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3381480" y="1199880"/>
              <a:ext cx="885240" cy="5067360"/>
              <a:chOff x="3381480" y="1199880"/>
              <a:chExt cx="885240" cy="5067360"/>
            </a:xfrm>
          </p:grpSpPr>
          <p:sp>
            <p:nvSpPr>
              <p:cNvPr id="470" name=""/>
              <p:cNvSpPr/>
              <p:nvPr/>
            </p:nvSpPr>
            <p:spPr>
              <a:xfrm>
                <a:off x="339696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3381480" y="1251000"/>
                <a:ext cx="828000" cy="4963320"/>
                <a:chOff x="3381480" y="1251000"/>
                <a:chExt cx="828000" cy="4963320"/>
              </a:xfrm>
            </p:grpSpPr>
            <p:grpSp>
              <p:nvGrpSpPr>
                <p:cNvPr id="472" name=""/>
                <p:cNvGrpSpPr/>
                <p:nvPr/>
              </p:nvGrpSpPr>
              <p:grpSpPr>
                <a:xfrm>
                  <a:off x="3381480" y="1251000"/>
                  <a:ext cx="635040" cy="2536560"/>
                  <a:chOff x="3381480" y="1251000"/>
                  <a:chExt cx="635040" cy="25365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3508400">
                    <a:off x="3472200" y="133848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3508400">
                    <a:off x="3472200" y="198072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3508400">
                    <a:off x="3472200" y="262296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3508400">
                    <a:off x="3472200" y="326520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3602880" y="1413720"/>
                    <a:ext cx="413640" cy="2230560"/>
                    <a:chOff x="3602880" y="1413720"/>
                    <a:chExt cx="413640" cy="223056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3616200" y="1413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3616200" y="21121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3616200" y="27543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3602880" y="3398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3599280" y="3677400"/>
                  <a:ext cx="610200" cy="2536920"/>
                  <a:chOff x="3599280" y="3677400"/>
                  <a:chExt cx="610200" cy="25369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>
                    <a:off x="3726720" y="38401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8091600">
                    <a:off x="3690000" y="37648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8091600">
                    <a:off x="3690000" y="44071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8091600">
                    <a:off x="3690000" y="50493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8091600">
                    <a:off x="3690000" y="56916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>
                    <a:off x="3726720" y="45374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3726720" y="51814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>
                    <a:off x="3713040" y="582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1" name=""/>
            <p:cNvGrpSpPr/>
            <p:nvPr/>
          </p:nvGrpSpPr>
          <p:grpSpPr>
            <a:xfrm>
              <a:off x="1279440" y="1199880"/>
              <a:ext cx="911520" cy="5067360"/>
              <a:chOff x="1279440" y="1199880"/>
              <a:chExt cx="911520" cy="5067360"/>
            </a:xfrm>
          </p:grpSpPr>
          <p:sp>
            <p:nvSpPr>
              <p:cNvPr id="492" name=""/>
              <p:cNvSpPr/>
              <p:nvPr/>
            </p:nvSpPr>
            <p:spPr>
              <a:xfrm>
                <a:off x="129528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1279440" y="1251000"/>
                <a:ext cx="911520" cy="4962960"/>
                <a:chOff x="1279440" y="1251000"/>
                <a:chExt cx="911520" cy="496296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1279440" y="1251000"/>
                  <a:ext cx="626400" cy="2536920"/>
                  <a:chOff x="1279440" y="1251000"/>
                  <a:chExt cx="626400" cy="253692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1513440" y="141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3508400">
                    <a:off x="1370520" y="13384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3508400">
                    <a:off x="1370520" y="19807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3508400">
                    <a:off x="1370520" y="26229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3508400">
                    <a:off x="1370520" y="32652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1513440" y="21128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513440" y="27550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503360" y="34016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1581120" y="3677400"/>
                  <a:ext cx="609840" cy="2536560"/>
                  <a:chOff x="1581120" y="3677400"/>
                  <a:chExt cx="609840" cy="2536560"/>
                </a:xfrm>
              </p:grpSpPr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1581120" y="3677400"/>
                    <a:ext cx="609840" cy="2536560"/>
                    <a:chOff x="1581120" y="3677400"/>
                    <a:chExt cx="609840" cy="253656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8091600">
                      <a:off x="1671840" y="376524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8091600">
                      <a:off x="1671840" y="440748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 rot="8091600">
                      <a:off x="1671840" y="504972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H="1" rot="8091600">
                      <a:off x="1671840" y="569196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1587240" y="3839760"/>
                    <a:ext cx="414720" cy="2229480"/>
                    <a:chOff x="1587240" y="3839760"/>
                    <a:chExt cx="414720" cy="222948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flipH="1">
                      <a:off x="1587240" y="3839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>
                      <a:off x="1587240" y="4536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>
                      <a:off x="1587240" y="5180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>
                      <a:off x="1601640" y="582300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14" name=""/>
            <p:cNvGrpSpPr/>
            <p:nvPr/>
          </p:nvGrpSpPr>
          <p:grpSpPr>
            <a:xfrm>
              <a:off x="1730160" y="1414080"/>
              <a:ext cx="1956960" cy="285120"/>
              <a:chOff x="1730160" y="1414080"/>
              <a:chExt cx="1956960" cy="28512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1730160" y="1414080"/>
                <a:ext cx="1956960" cy="285120"/>
                <a:chOff x="1730160" y="1414080"/>
                <a:chExt cx="1956960" cy="28512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1730160" y="1414080"/>
                  <a:ext cx="579600" cy="285120"/>
                  <a:chOff x="1730160" y="1414080"/>
                  <a:chExt cx="579600" cy="28512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1802160" y="1699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730160" y="14140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9" name=""/>
                <p:cNvSpPr/>
                <p:nvPr/>
              </p:nvSpPr>
              <p:spPr>
                <a:xfrm>
                  <a:off x="2309760" y="148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09760" y="1627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252240" y="1699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52240" y="14140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309760" y="1414080"/>
                <a:ext cx="942120" cy="284760"/>
                <a:chOff x="2309760" y="1414080"/>
                <a:chExt cx="942120" cy="2847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30976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30976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5188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5188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8" name=""/>
            <p:cNvGrpSpPr/>
            <p:nvPr/>
          </p:nvGrpSpPr>
          <p:grpSpPr>
            <a:xfrm>
              <a:off x="1730160" y="2698560"/>
              <a:ext cx="1956960" cy="285120"/>
              <a:chOff x="1730160" y="2698560"/>
              <a:chExt cx="1956960" cy="2851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1730160" y="2698560"/>
                <a:ext cx="1956960" cy="285120"/>
                <a:chOff x="1730160" y="2698560"/>
                <a:chExt cx="1956960" cy="285120"/>
              </a:xfrm>
            </p:grpSpPr>
            <p:grpSp>
              <p:nvGrpSpPr>
                <p:cNvPr id="530" name=""/>
                <p:cNvGrpSpPr/>
                <p:nvPr/>
              </p:nvGrpSpPr>
              <p:grpSpPr>
                <a:xfrm>
                  <a:off x="1730160" y="2698560"/>
                  <a:ext cx="579600" cy="285120"/>
                  <a:chOff x="1730160" y="2698560"/>
                  <a:chExt cx="579600" cy="28512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1802160" y="29836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730160" y="2698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>
                  <a:off x="2309760" y="2769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309760" y="2912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252240" y="29836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252240" y="2698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2309760" y="2698560"/>
                <a:ext cx="942120" cy="284760"/>
                <a:chOff x="2309760" y="2698560"/>
                <a:chExt cx="942120" cy="2847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230976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30976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25188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25188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2" name=""/>
            <p:cNvGrpSpPr/>
            <p:nvPr/>
          </p:nvGrpSpPr>
          <p:grpSpPr>
            <a:xfrm>
              <a:off x="1730160" y="2056320"/>
              <a:ext cx="1956960" cy="285120"/>
              <a:chOff x="1730160" y="2056320"/>
              <a:chExt cx="1956960" cy="28512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1730160" y="2056320"/>
                <a:ext cx="1956960" cy="285120"/>
                <a:chOff x="1730160" y="2056320"/>
                <a:chExt cx="1956960" cy="28512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1730160" y="2056320"/>
                  <a:ext cx="579600" cy="285120"/>
                  <a:chOff x="1730160" y="2056320"/>
                  <a:chExt cx="579600" cy="28512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802160" y="23414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730160" y="2056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2309760" y="2127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309760" y="22701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52240" y="23414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52240" y="2056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2309760" y="2056320"/>
                <a:ext cx="942120" cy="284760"/>
                <a:chOff x="2309760" y="2056320"/>
                <a:chExt cx="942120" cy="2847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230976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30976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5188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5188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6" name=""/>
            <p:cNvGrpSpPr/>
            <p:nvPr/>
          </p:nvGrpSpPr>
          <p:grpSpPr>
            <a:xfrm>
              <a:off x="1730160" y="3341160"/>
              <a:ext cx="1956960" cy="285120"/>
              <a:chOff x="1730160" y="3341160"/>
              <a:chExt cx="1956960" cy="28512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30160" y="3341160"/>
                <a:ext cx="1956960" cy="285120"/>
                <a:chOff x="1730160" y="3341160"/>
                <a:chExt cx="1956960" cy="28512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1730160" y="3341160"/>
                  <a:ext cx="579600" cy="285120"/>
                  <a:chOff x="1730160" y="3341160"/>
                  <a:chExt cx="579600" cy="2851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1802160" y="36262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730160" y="33411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1" name=""/>
                <p:cNvSpPr/>
                <p:nvPr/>
              </p:nvSpPr>
              <p:spPr>
                <a:xfrm>
                  <a:off x="2309760" y="34120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309760" y="355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52240" y="36262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52240" y="33411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2309760" y="3341160"/>
                <a:ext cx="942120" cy="284760"/>
                <a:chOff x="2309760" y="3341160"/>
                <a:chExt cx="942120" cy="2847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230976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30976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5188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5188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0" name=""/>
            <p:cNvGrpSpPr/>
            <p:nvPr/>
          </p:nvGrpSpPr>
          <p:grpSpPr>
            <a:xfrm>
              <a:off x="1874880" y="5767560"/>
              <a:ext cx="1956960" cy="285480"/>
              <a:chOff x="1874880" y="5767560"/>
              <a:chExt cx="1956960" cy="28548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1874880" y="5767560"/>
                <a:ext cx="1956960" cy="285480"/>
                <a:chOff x="1874880" y="5767560"/>
                <a:chExt cx="1956960" cy="28548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3252240" y="5767560"/>
                  <a:ext cx="579600" cy="285480"/>
                  <a:chOff x="3252240" y="5767560"/>
                  <a:chExt cx="579600" cy="2854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>
                    <a:off x="3252600" y="60530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3252240" y="5767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 flipH="1">
                  <a:off x="2310120" y="5838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2310120" y="59817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1874880" y="60530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1874880" y="5767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310120" y="5767560"/>
                <a:ext cx="942120" cy="285120"/>
                <a:chOff x="2310120" y="5767560"/>
                <a:chExt cx="942120" cy="2851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325224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5224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31012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31012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"/>
            <p:cNvGrpSpPr/>
            <p:nvPr/>
          </p:nvGrpSpPr>
          <p:grpSpPr>
            <a:xfrm>
              <a:off x="1874880" y="5125320"/>
              <a:ext cx="1956960" cy="285480"/>
              <a:chOff x="1874880" y="5125320"/>
              <a:chExt cx="1956960" cy="28548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1874880" y="5125320"/>
                <a:ext cx="1956960" cy="285480"/>
                <a:chOff x="1874880" y="5125320"/>
                <a:chExt cx="1956960" cy="285480"/>
              </a:xfrm>
            </p:grpSpPr>
            <p:grpSp>
              <p:nvGrpSpPr>
                <p:cNvPr id="586" name=""/>
                <p:cNvGrpSpPr/>
                <p:nvPr/>
              </p:nvGrpSpPr>
              <p:grpSpPr>
                <a:xfrm>
                  <a:off x="3252240" y="5125320"/>
                  <a:ext cx="579600" cy="285480"/>
                  <a:chOff x="3252240" y="5125320"/>
                  <a:chExt cx="579600" cy="28548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flipH="1">
                    <a:off x="3252600" y="54108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3252240" y="5125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9" name=""/>
                <p:cNvSpPr/>
                <p:nvPr/>
              </p:nvSpPr>
              <p:spPr>
                <a:xfrm flipH="1">
                  <a:off x="2310120" y="5196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2310120" y="53395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>
                  <a:off x="1874880" y="54108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1874880" y="5125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2310120" y="5125320"/>
                <a:ext cx="942120" cy="285120"/>
                <a:chOff x="2310120" y="5125320"/>
                <a:chExt cx="942120" cy="2851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25224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224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012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31012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8" name=""/>
            <p:cNvGrpSpPr/>
            <p:nvPr/>
          </p:nvGrpSpPr>
          <p:grpSpPr>
            <a:xfrm>
              <a:off x="1874880" y="4482720"/>
              <a:ext cx="1956960" cy="285480"/>
              <a:chOff x="1874880" y="4482720"/>
              <a:chExt cx="1956960" cy="28548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1874880" y="4482720"/>
                <a:ext cx="1956960" cy="285480"/>
                <a:chOff x="1874880" y="4482720"/>
                <a:chExt cx="1956960" cy="28548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3252240" y="4482720"/>
                  <a:ext cx="579600" cy="285480"/>
                  <a:chOff x="3252240" y="4482720"/>
                  <a:chExt cx="579600" cy="28548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3252600" y="4768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3252240" y="44827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flipH="1">
                  <a:off x="2310120" y="45536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>
                  <a:off x="2310120" y="4696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>
                  <a:off x="1874880" y="4768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>
                  <a:off x="1874880" y="44827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2310120" y="4482720"/>
                <a:ext cx="942120" cy="285120"/>
                <a:chOff x="2310120" y="4482720"/>
                <a:chExt cx="942120" cy="285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325224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5224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31012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31012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2" name=""/>
            <p:cNvGrpSpPr/>
            <p:nvPr/>
          </p:nvGrpSpPr>
          <p:grpSpPr>
            <a:xfrm>
              <a:off x="1874880" y="3840480"/>
              <a:ext cx="1956960" cy="285480"/>
              <a:chOff x="1874880" y="3840480"/>
              <a:chExt cx="1956960" cy="28548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1874880" y="3840480"/>
                <a:ext cx="1956960" cy="285480"/>
                <a:chOff x="1874880" y="3840480"/>
                <a:chExt cx="1956960" cy="28548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3252240" y="3840480"/>
                  <a:ext cx="579600" cy="285480"/>
                  <a:chOff x="3252240" y="3840480"/>
                  <a:chExt cx="579600" cy="2854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H="1">
                    <a:off x="3252600" y="41259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252240" y="38404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 flipH="1">
                  <a:off x="2310120" y="3911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>
                  <a:off x="2310120" y="40546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>
                  <a:off x="1874880" y="41259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>
                  <a:off x="1874880" y="38404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2310120" y="3840480"/>
                <a:ext cx="942120" cy="285120"/>
                <a:chOff x="2310120" y="3840480"/>
                <a:chExt cx="942120" cy="2851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25224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25224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31012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31012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>
              <a:off x="2415960" y="6053040"/>
              <a:ext cx="68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b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652640" y="861840"/>
            <a:ext cx="45255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t-up and Calib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start – 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 – 20 G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– 25 M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– (-15 d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– (0 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 – (0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ing – ( Cat –1)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– (Cat –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W – (100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ep Mode – Ste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: Thru Adapter / Phase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Cal -&gt; SOL CAL Kit Adap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2 – Multiport (Press-Fit/Quick Connect Us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u Cal -&gt; Connect 1 -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 1 -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 3 -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 2 -&gt;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: Terminate unused ports to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3 – SOL -&gt; Conn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 to Port 1, 4, 3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ort to Port 2, 1, 4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ad to Port 3, 2, 1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4724280" y="1589040"/>
            <a:ext cx="4191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sure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start – 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 – 20 G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– 25 MH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– (-15 d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pe – (0 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 – (0dB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ing – ( Cat –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– (Cat –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W – (100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ep Mode – Ste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beling Conven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ft Card – Pr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ght Card – Remot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279440" y="990720"/>
            <a:ext cx="2987280" cy="5638320"/>
            <a:chOff x="1279440" y="990720"/>
            <a:chExt cx="2987280" cy="5638320"/>
          </a:xfrm>
        </p:grpSpPr>
        <p:sp>
          <p:nvSpPr>
            <p:cNvPr id="631" name=""/>
            <p:cNvSpPr/>
            <p:nvPr/>
          </p:nvSpPr>
          <p:spPr>
            <a:xfrm>
              <a:off x="2382480" y="3845520"/>
              <a:ext cx="797040" cy="278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82480" y="990720"/>
              <a:ext cx="797040" cy="278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3381480" y="1276200"/>
              <a:ext cx="885240" cy="5067360"/>
              <a:chOff x="3381480" y="1276200"/>
              <a:chExt cx="885240" cy="5067360"/>
            </a:xfrm>
          </p:grpSpPr>
          <p:sp>
            <p:nvSpPr>
              <p:cNvPr id="634" name=""/>
              <p:cNvSpPr/>
              <p:nvPr/>
            </p:nvSpPr>
            <p:spPr>
              <a:xfrm>
                <a:off x="3396960" y="127620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3381480" y="1327320"/>
                <a:ext cx="828000" cy="4963320"/>
                <a:chOff x="3381480" y="1327320"/>
                <a:chExt cx="828000" cy="496332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3381480" y="1327320"/>
                  <a:ext cx="635040" cy="2536560"/>
                  <a:chOff x="3381480" y="1327320"/>
                  <a:chExt cx="635040" cy="253656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rot="13508400">
                    <a:off x="3472200" y="141480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rot="13508400">
                    <a:off x="3472200" y="205704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13508400">
                    <a:off x="3472200" y="269928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13508400">
                    <a:off x="3472200" y="334152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602880" y="1490040"/>
                    <a:ext cx="413640" cy="2230560"/>
                    <a:chOff x="3602880" y="1490040"/>
                    <a:chExt cx="413640" cy="223056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3616200" y="1490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3616200" y="21884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3616200" y="283068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3602880" y="34743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3599280" y="3753720"/>
                  <a:ext cx="610200" cy="2536920"/>
                  <a:chOff x="3599280" y="3753720"/>
                  <a:chExt cx="610200" cy="253692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>
                    <a:off x="3726720" y="39164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8091600">
                    <a:off x="3690000" y="38412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H="1" rot="8091600">
                    <a:off x="3690000" y="448344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 rot="8091600">
                    <a:off x="3690000" y="51256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8091600">
                    <a:off x="3690000" y="57679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>
                    <a:off x="3726720" y="461376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>
                    <a:off x="3726720" y="525780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>
                    <a:off x="3713040" y="59000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55" name=""/>
            <p:cNvGrpSpPr/>
            <p:nvPr/>
          </p:nvGrpSpPr>
          <p:grpSpPr>
            <a:xfrm>
              <a:off x="1279440" y="1276200"/>
              <a:ext cx="911520" cy="5067360"/>
              <a:chOff x="1279440" y="1276200"/>
              <a:chExt cx="911520" cy="5067360"/>
            </a:xfrm>
          </p:grpSpPr>
          <p:sp>
            <p:nvSpPr>
              <p:cNvPr id="656" name=""/>
              <p:cNvSpPr/>
              <p:nvPr/>
            </p:nvSpPr>
            <p:spPr>
              <a:xfrm>
                <a:off x="1295280" y="127620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1279440" y="1327320"/>
                <a:ext cx="911520" cy="4962960"/>
                <a:chOff x="1279440" y="1327320"/>
                <a:chExt cx="911520" cy="4962960"/>
              </a:xfrm>
            </p:grpSpPr>
            <p:grpSp>
              <p:nvGrpSpPr>
                <p:cNvPr id="658" name=""/>
                <p:cNvGrpSpPr/>
                <p:nvPr/>
              </p:nvGrpSpPr>
              <p:grpSpPr>
                <a:xfrm>
                  <a:off x="1279440" y="1327320"/>
                  <a:ext cx="626400" cy="2536920"/>
                  <a:chOff x="1279440" y="1327320"/>
                  <a:chExt cx="626400" cy="253692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1513440" y="14900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3508400">
                    <a:off x="1370520" y="14148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3508400">
                    <a:off x="1370520" y="205704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3508400">
                    <a:off x="1370520" y="26992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13508400">
                    <a:off x="1370520" y="33415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1513440" y="218916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1513440" y="283140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1503360" y="347796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1581120" y="3753720"/>
                  <a:ext cx="609840" cy="2536560"/>
                  <a:chOff x="1581120" y="3753720"/>
                  <a:chExt cx="609840" cy="2536560"/>
                </a:xfrm>
              </p:grpSpPr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1581120" y="3753720"/>
                    <a:ext cx="609840" cy="2536560"/>
                    <a:chOff x="1581120" y="3753720"/>
                    <a:chExt cx="609840" cy="253656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flipH="1" rot="8091600">
                      <a:off x="1671840" y="384156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 rot="8091600">
                      <a:off x="1671840" y="448380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flipH="1" rot="8091600">
                      <a:off x="1671840" y="512604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8091600">
                      <a:off x="1671840" y="576828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1587240" y="3916080"/>
                    <a:ext cx="414720" cy="2229480"/>
                    <a:chOff x="1587240" y="3916080"/>
                    <a:chExt cx="414720" cy="222948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>
                      <a:off x="1587240" y="391608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>
                      <a:off x="1587240" y="4613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flipH="1">
                      <a:off x="1587240" y="525708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flipH="1">
                      <a:off x="1601640" y="58993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78" name=""/>
            <p:cNvGrpSpPr/>
            <p:nvPr/>
          </p:nvGrpSpPr>
          <p:grpSpPr>
            <a:xfrm>
              <a:off x="1730160" y="1490400"/>
              <a:ext cx="1956960" cy="285120"/>
              <a:chOff x="1730160" y="1490400"/>
              <a:chExt cx="1956960" cy="28512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1730160" y="1490400"/>
                <a:ext cx="1956960" cy="285120"/>
                <a:chOff x="1730160" y="1490400"/>
                <a:chExt cx="1956960" cy="28512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1730160" y="1490400"/>
                  <a:ext cx="579600" cy="285120"/>
                  <a:chOff x="1730160" y="1490400"/>
                  <a:chExt cx="579600" cy="28512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1802160" y="177552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1730160" y="149040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3" name=""/>
                <p:cNvSpPr/>
                <p:nvPr/>
              </p:nvSpPr>
              <p:spPr>
                <a:xfrm>
                  <a:off x="2309760" y="15613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309760" y="1704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252240" y="17755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52240" y="14904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2309760" y="1490400"/>
                <a:ext cx="942120" cy="284760"/>
                <a:chOff x="2309760" y="1490400"/>
                <a:chExt cx="942120" cy="2847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2309760" y="1704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309760" y="1490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251880" y="1490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251880" y="1704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2" name=""/>
            <p:cNvGrpSpPr/>
            <p:nvPr/>
          </p:nvGrpSpPr>
          <p:grpSpPr>
            <a:xfrm>
              <a:off x="1730160" y="2774880"/>
              <a:ext cx="1956960" cy="285120"/>
              <a:chOff x="1730160" y="2774880"/>
              <a:chExt cx="1956960" cy="28512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1730160" y="2774880"/>
                <a:ext cx="1956960" cy="285120"/>
                <a:chOff x="1730160" y="2774880"/>
                <a:chExt cx="1956960" cy="285120"/>
              </a:xfrm>
            </p:grpSpPr>
            <p:grpSp>
              <p:nvGrpSpPr>
                <p:cNvPr id="694" name=""/>
                <p:cNvGrpSpPr/>
                <p:nvPr/>
              </p:nvGrpSpPr>
              <p:grpSpPr>
                <a:xfrm>
                  <a:off x="1730160" y="2774880"/>
                  <a:ext cx="579600" cy="285120"/>
                  <a:chOff x="1730160" y="2774880"/>
                  <a:chExt cx="579600" cy="28512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1802160" y="30600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1730160" y="27748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7" name=""/>
                <p:cNvSpPr/>
                <p:nvPr/>
              </p:nvSpPr>
              <p:spPr>
                <a:xfrm>
                  <a:off x="2309760" y="28458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309760" y="29887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252240" y="30600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252240" y="27748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2309760" y="2774880"/>
                <a:ext cx="942120" cy="284760"/>
                <a:chOff x="2309760" y="2774880"/>
                <a:chExt cx="942120" cy="2847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2309760" y="2988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309760" y="2774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251880" y="2774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51880" y="2988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6" name=""/>
            <p:cNvGrpSpPr/>
            <p:nvPr/>
          </p:nvGrpSpPr>
          <p:grpSpPr>
            <a:xfrm>
              <a:off x="1730160" y="2132640"/>
              <a:ext cx="1956960" cy="285120"/>
              <a:chOff x="1730160" y="2132640"/>
              <a:chExt cx="1956960" cy="28512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1730160" y="2132640"/>
                <a:ext cx="1956960" cy="285120"/>
                <a:chOff x="1730160" y="2132640"/>
                <a:chExt cx="1956960" cy="28512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1730160" y="2132640"/>
                  <a:ext cx="579600" cy="285120"/>
                  <a:chOff x="1730160" y="2132640"/>
                  <a:chExt cx="579600" cy="28512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1802160" y="24177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1730160" y="213264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>
                  <a:off x="2309760" y="22035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309760" y="2346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252240" y="24177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252240" y="21326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309760" y="2132640"/>
                <a:ext cx="942120" cy="284760"/>
                <a:chOff x="2309760" y="2132640"/>
                <a:chExt cx="942120" cy="2847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309760" y="2346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309760" y="2132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251880" y="2132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251880" y="2346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0" name=""/>
            <p:cNvGrpSpPr/>
            <p:nvPr/>
          </p:nvGrpSpPr>
          <p:grpSpPr>
            <a:xfrm>
              <a:off x="1730160" y="3417480"/>
              <a:ext cx="1956960" cy="285120"/>
              <a:chOff x="1730160" y="3417480"/>
              <a:chExt cx="1956960" cy="28512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730160" y="3417480"/>
                <a:ext cx="1956960" cy="285120"/>
                <a:chOff x="1730160" y="3417480"/>
                <a:chExt cx="1956960" cy="28512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1730160" y="3417480"/>
                  <a:ext cx="579600" cy="285120"/>
                  <a:chOff x="1730160" y="3417480"/>
                  <a:chExt cx="579600" cy="28512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1802160" y="37026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730160" y="34174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>
                  <a:off x="2309760" y="3488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309760" y="36313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252240" y="37026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252240" y="34174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2309760" y="3417480"/>
                <a:ext cx="942120" cy="284760"/>
                <a:chOff x="2309760" y="3417480"/>
                <a:chExt cx="942120" cy="28476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2309760" y="3631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309760" y="3417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251880" y="3417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251880" y="3631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4" name=""/>
            <p:cNvGrpSpPr/>
            <p:nvPr/>
          </p:nvGrpSpPr>
          <p:grpSpPr>
            <a:xfrm>
              <a:off x="1874880" y="5843880"/>
              <a:ext cx="1956960" cy="285480"/>
              <a:chOff x="1874880" y="5843880"/>
              <a:chExt cx="1956960" cy="28548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1874880" y="5843880"/>
                <a:ext cx="1956960" cy="285480"/>
                <a:chOff x="1874880" y="5843880"/>
                <a:chExt cx="1956960" cy="28548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3252240" y="5843880"/>
                  <a:ext cx="579600" cy="285480"/>
                  <a:chOff x="3252240" y="5843880"/>
                  <a:chExt cx="579600" cy="28548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 flipH="1">
                    <a:off x="3252600" y="61293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>
                    <a:off x="3252240" y="58438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9" name=""/>
                <p:cNvSpPr/>
                <p:nvPr/>
              </p:nvSpPr>
              <p:spPr>
                <a:xfrm flipH="1">
                  <a:off x="2310120" y="59148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>
                  <a:off x="2310120" y="60580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>
                  <a:off x="1874880" y="61293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>
                  <a:off x="1874880" y="58438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2310120" y="5843880"/>
                <a:ext cx="942120" cy="285120"/>
                <a:chOff x="2310120" y="5843880"/>
                <a:chExt cx="942120" cy="28512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3252240" y="6058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252240" y="5843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310120" y="58438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310120" y="6058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"/>
            <p:cNvGrpSpPr/>
            <p:nvPr/>
          </p:nvGrpSpPr>
          <p:grpSpPr>
            <a:xfrm>
              <a:off x="1874880" y="5201640"/>
              <a:ext cx="1956960" cy="285480"/>
              <a:chOff x="1874880" y="5201640"/>
              <a:chExt cx="1956960" cy="28548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1874880" y="5201640"/>
                <a:ext cx="1956960" cy="285480"/>
                <a:chOff x="1874880" y="5201640"/>
                <a:chExt cx="1956960" cy="285480"/>
              </a:xfrm>
            </p:grpSpPr>
            <p:grpSp>
              <p:nvGrpSpPr>
                <p:cNvPr id="750" name=""/>
                <p:cNvGrpSpPr/>
                <p:nvPr/>
              </p:nvGrpSpPr>
              <p:grpSpPr>
                <a:xfrm>
                  <a:off x="3252240" y="5201640"/>
                  <a:ext cx="579600" cy="285480"/>
                  <a:chOff x="3252240" y="5201640"/>
                  <a:chExt cx="579600" cy="28548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 flipH="1">
                    <a:off x="3252600" y="548712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H="1">
                    <a:off x="3252240" y="520164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3" name=""/>
                <p:cNvSpPr/>
                <p:nvPr/>
              </p:nvSpPr>
              <p:spPr>
                <a:xfrm flipH="1">
                  <a:off x="2310120" y="52725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2310120" y="54158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1874880" y="54871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1874880" y="52016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310120" y="5201640"/>
                <a:ext cx="942120" cy="285120"/>
                <a:chOff x="2310120" y="5201640"/>
                <a:chExt cx="942120" cy="285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252240" y="54158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252240" y="5201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310120" y="52016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310120" y="54158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2" name=""/>
            <p:cNvGrpSpPr/>
            <p:nvPr/>
          </p:nvGrpSpPr>
          <p:grpSpPr>
            <a:xfrm>
              <a:off x="1874880" y="4559040"/>
              <a:ext cx="1956960" cy="285480"/>
              <a:chOff x="1874880" y="4559040"/>
              <a:chExt cx="1956960" cy="28548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1874880" y="4559040"/>
                <a:ext cx="1956960" cy="285480"/>
                <a:chOff x="1874880" y="4559040"/>
                <a:chExt cx="1956960" cy="285480"/>
              </a:xfrm>
            </p:grpSpPr>
            <p:grpSp>
              <p:nvGrpSpPr>
                <p:cNvPr id="764" name=""/>
                <p:cNvGrpSpPr/>
                <p:nvPr/>
              </p:nvGrpSpPr>
              <p:grpSpPr>
                <a:xfrm>
                  <a:off x="3252240" y="4559040"/>
                  <a:ext cx="579600" cy="285480"/>
                  <a:chOff x="3252240" y="4559040"/>
                  <a:chExt cx="579600" cy="28548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flipH="1">
                    <a:off x="3252600" y="484452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3252240" y="455904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7" name=""/>
                <p:cNvSpPr/>
                <p:nvPr/>
              </p:nvSpPr>
              <p:spPr>
                <a:xfrm flipH="1">
                  <a:off x="2310120" y="46299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2310120" y="4773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1874880" y="48445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1874880" y="45590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310120" y="4559040"/>
                <a:ext cx="942120" cy="285120"/>
                <a:chOff x="2310120" y="4559040"/>
                <a:chExt cx="942120" cy="28512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3252240" y="4773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252240" y="45590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310120" y="45590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310120" y="477324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6" name=""/>
            <p:cNvGrpSpPr/>
            <p:nvPr/>
          </p:nvGrpSpPr>
          <p:grpSpPr>
            <a:xfrm>
              <a:off x="1874880" y="3916800"/>
              <a:ext cx="1956960" cy="285480"/>
              <a:chOff x="1874880" y="3916800"/>
              <a:chExt cx="1956960" cy="28548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1874880" y="3916800"/>
                <a:ext cx="1956960" cy="285480"/>
                <a:chOff x="1874880" y="3916800"/>
                <a:chExt cx="1956960" cy="28548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3252240" y="3916800"/>
                  <a:ext cx="579600" cy="285480"/>
                  <a:chOff x="3252240" y="3916800"/>
                  <a:chExt cx="579600" cy="28548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 flipH="1">
                    <a:off x="3252600" y="42022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>
                    <a:off x="3252240" y="391680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 flipH="1">
                  <a:off x="2310120" y="39877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2310120" y="4131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1874880" y="42022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1874880" y="39168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2310120" y="3916800"/>
                <a:ext cx="942120" cy="285120"/>
                <a:chOff x="2310120" y="3916800"/>
                <a:chExt cx="942120" cy="2851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3252240" y="4131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252240" y="39168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310120" y="39168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310120" y="4131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0" name=""/>
            <p:cNvSpPr/>
            <p:nvPr/>
          </p:nvSpPr>
          <p:spPr>
            <a:xfrm>
              <a:off x="2415960" y="6129360"/>
              <a:ext cx="68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b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648320" y="1498680"/>
            <a:ext cx="41907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sure Phase 1 (Create Folders 1-25m_Outbound_F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Create Folder 1-25m_Outbound_NEX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: J2K2 Thru G2H2 ssj2k2g2h2 SN 004 (Backp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ase 2 – Data Transforms – Select 2 balanced ports –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sam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s4p (mixed mode) transform same lab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osstalk -&gt; Drive j2k2 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quiet lines g3h3 (Rx1-4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–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ld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- example 1.25m  (-35.376 d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Transform – Real/Imag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&gt; Drive j2k2 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g3h3 NEXT (Rx5-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-&gt; List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lder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(-62.972 d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Ansoft s4p Transform – Real/Imag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&gt; Drive j2k2 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g2h2 Place in NEXT 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Data -&gt; List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lder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(-60.503 d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Ansoft s4p Transform – Real/Imagin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: Terminate unused ports to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279440" y="914400"/>
            <a:ext cx="2987280" cy="5638320"/>
            <a:chOff x="1279440" y="914400"/>
            <a:chExt cx="2987280" cy="5638320"/>
          </a:xfrm>
        </p:grpSpPr>
        <p:sp>
          <p:nvSpPr>
            <p:cNvPr id="794" name=""/>
            <p:cNvSpPr/>
            <p:nvPr/>
          </p:nvSpPr>
          <p:spPr>
            <a:xfrm>
              <a:off x="2382480" y="3769200"/>
              <a:ext cx="797040" cy="278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82480" y="914400"/>
              <a:ext cx="797040" cy="278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3381480" y="1199880"/>
              <a:ext cx="885240" cy="5067360"/>
              <a:chOff x="3381480" y="1199880"/>
              <a:chExt cx="885240" cy="5067360"/>
            </a:xfrm>
          </p:grpSpPr>
          <p:sp>
            <p:nvSpPr>
              <p:cNvPr id="797" name=""/>
              <p:cNvSpPr/>
              <p:nvPr/>
            </p:nvSpPr>
            <p:spPr>
              <a:xfrm>
                <a:off x="339696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3381480" y="1251000"/>
                <a:ext cx="828000" cy="4963320"/>
                <a:chOff x="3381480" y="1251000"/>
                <a:chExt cx="828000" cy="4963320"/>
              </a:xfrm>
            </p:grpSpPr>
            <p:grpSp>
              <p:nvGrpSpPr>
                <p:cNvPr id="799" name=""/>
                <p:cNvGrpSpPr/>
                <p:nvPr/>
              </p:nvGrpSpPr>
              <p:grpSpPr>
                <a:xfrm>
                  <a:off x="3381480" y="1251000"/>
                  <a:ext cx="635040" cy="2536560"/>
                  <a:chOff x="3381480" y="1251000"/>
                  <a:chExt cx="635040" cy="253656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 rot="13508400">
                    <a:off x="3472200" y="133848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rot="13508400">
                    <a:off x="3472200" y="198072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rot="13508400">
                    <a:off x="3472200" y="262296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rot="13508400">
                    <a:off x="3472200" y="3265200"/>
                    <a:ext cx="428040" cy="43452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602880" y="1413720"/>
                    <a:ext cx="413640" cy="2230560"/>
                    <a:chOff x="3602880" y="1413720"/>
                    <a:chExt cx="413640" cy="223056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3616200" y="1413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3616200" y="21121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3616200" y="27543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602880" y="339804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3599280" y="3677400"/>
                  <a:ext cx="610200" cy="2536920"/>
                  <a:chOff x="3599280" y="3677400"/>
                  <a:chExt cx="610200" cy="253692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H="1">
                    <a:off x="3726720" y="38401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rot="8091600">
                    <a:off x="3690000" y="37648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8091600">
                    <a:off x="3690000" y="44071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 rot="8091600">
                    <a:off x="3690000" y="50493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H="1" rot="8091600">
                    <a:off x="3690000" y="56916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>
                    <a:off x="3726720" y="45374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H="1">
                    <a:off x="3726720" y="51814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>
                    <a:off x="3713040" y="582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8" name=""/>
            <p:cNvGrpSpPr/>
            <p:nvPr/>
          </p:nvGrpSpPr>
          <p:grpSpPr>
            <a:xfrm>
              <a:off x="1279440" y="1199880"/>
              <a:ext cx="911520" cy="5067360"/>
              <a:chOff x="1279440" y="1199880"/>
              <a:chExt cx="911520" cy="5067360"/>
            </a:xfrm>
          </p:grpSpPr>
          <p:sp>
            <p:nvSpPr>
              <p:cNvPr id="819" name=""/>
              <p:cNvSpPr/>
              <p:nvPr/>
            </p:nvSpPr>
            <p:spPr>
              <a:xfrm>
                <a:off x="1295280" y="1199880"/>
                <a:ext cx="869760" cy="506736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1279440" y="1251000"/>
                <a:ext cx="911520" cy="4962960"/>
                <a:chOff x="1279440" y="1251000"/>
                <a:chExt cx="911520" cy="4962960"/>
              </a:xfrm>
            </p:grpSpPr>
            <p:grpSp>
              <p:nvGrpSpPr>
                <p:cNvPr id="821" name=""/>
                <p:cNvGrpSpPr/>
                <p:nvPr/>
              </p:nvGrpSpPr>
              <p:grpSpPr>
                <a:xfrm>
                  <a:off x="1279440" y="1251000"/>
                  <a:ext cx="626400" cy="2536920"/>
                  <a:chOff x="1279440" y="1251000"/>
                  <a:chExt cx="626400" cy="253692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1513440" y="141372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3508400">
                    <a:off x="1370520" y="133848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rot="13508400">
                    <a:off x="1370520" y="198072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rot="13508400">
                    <a:off x="1370520" y="262296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rot="13508400">
                    <a:off x="1370520" y="3265200"/>
                    <a:ext cx="428040" cy="434880"/>
                  </a:xfrm>
                  <a:prstGeom prst="rtTriangle">
                    <a:avLst/>
                  </a:prstGeom>
                  <a:noFill/>
                  <a:ln w="1908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513440" y="21128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513440" y="275508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503360" y="3401640"/>
                    <a:ext cx="3924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x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1581120" y="3677400"/>
                  <a:ext cx="609840" cy="2536560"/>
                  <a:chOff x="1581120" y="3677400"/>
                  <a:chExt cx="609840" cy="2536560"/>
                </a:xfrm>
              </p:grpSpPr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1581120" y="3677400"/>
                    <a:ext cx="609840" cy="2536560"/>
                    <a:chOff x="1581120" y="3677400"/>
                    <a:chExt cx="609840" cy="253656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 flipH="1" rot="8091600">
                      <a:off x="1671840" y="376524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 flipH="1" rot="8091600">
                      <a:off x="1671840" y="440748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flipH="1" rot="8091600">
                      <a:off x="1671840" y="504972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8091600">
                      <a:off x="1671840" y="5691960"/>
                      <a:ext cx="428040" cy="43416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1587240" y="3839760"/>
                    <a:ext cx="414720" cy="2229480"/>
                    <a:chOff x="1587240" y="3839760"/>
                    <a:chExt cx="414720" cy="222948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>
                      <a:off x="1587240" y="3839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>
                      <a:off x="1587240" y="453672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 flipH="1">
                      <a:off x="1587240" y="518076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>
                      <a:off x="1601640" y="5823000"/>
                      <a:ext cx="40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841" name=""/>
            <p:cNvGrpSpPr/>
            <p:nvPr/>
          </p:nvGrpSpPr>
          <p:grpSpPr>
            <a:xfrm>
              <a:off x="1730160" y="1414080"/>
              <a:ext cx="1956960" cy="285120"/>
              <a:chOff x="1730160" y="1414080"/>
              <a:chExt cx="1956960" cy="28512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1730160" y="1414080"/>
                <a:ext cx="1956960" cy="285120"/>
                <a:chOff x="1730160" y="1414080"/>
                <a:chExt cx="1956960" cy="285120"/>
              </a:xfrm>
            </p:grpSpPr>
            <p:grpSp>
              <p:nvGrpSpPr>
                <p:cNvPr id="843" name=""/>
                <p:cNvGrpSpPr/>
                <p:nvPr/>
              </p:nvGrpSpPr>
              <p:grpSpPr>
                <a:xfrm>
                  <a:off x="1730160" y="1414080"/>
                  <a:ext cx="579600" cy="285120"/>
                  <a:chOff x="1730160" y="1414080"/>
                  <a:chExt cx="579600" cy="28512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1802160" y="1699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1730160" y="14140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6" name=""/>
                <p:cNvSpPr/>
                <p:nvPr/>
              </p:nvSpPr>
              <p:spPr>
                <a:xfrm>
                  <a:off x="2309760" y="148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309760" y="1627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252240" y="1699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252240" y="14140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2309760" y="1414080"/>
                <a:ext cx="942120" cy="284760"/>
                <a:chOff x="2309760" y="1414080"/>
                <a:chExt cx="942120" cy="28476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230976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30976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251880" y="14140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251880" y="1627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5" name=""/>
            <p:cNvGrpSpPr/>
            <p:nvPr/>
          </p:nvGrpSpPr>
          <p:grpSpPr>
            <a:xfrm>
              <a:off x="1730160" y="2698560"/>
              <a:ext cx="1956960" cy="285120"/>
              <a:chOff x="1730160" y="2698560"/>
              <a:chExt cx="1956960" cy="28512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1730160" y="2698560"/>
                <a:ext cx="1956960" cy="285120"/>
                <a:chOff x="1730160" y="2698560"/>
                <a:chExt cx="1956960" cy="285120"/>
              </a:xfrm>
            </p:grpSpPr>
            <p:grpSp>
              <p:nvGrpSpPr>
                <p:cNvPr id="857" name=""/>
                <p:cNvGrpSpPr/>
                <p:nvPr/>
              </p:nvGrpSpPr>
              <p:grpSpPr>
                <a:xfrm>
                  <a:off x="1730160" y="2698560"/>
                  <a:ext cx="579600" cy="285120"/>
                  <a:chOff x="1730160" y="2698560"/>
                  <a:chExt cx="579600" cy="28512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>
                    <a:off x="1802160" y="29836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730160" y="2698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" name=""/>
                <p:cNvSpPr/>
                <p:nvPr/>
              </p:nvSpPr>
              <p:spPr>
                <a:xfrm>
                  <a:off x="2309760" y="2769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309760" y="2912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3252240" y="29836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252240" y="2698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2309760" y="2698560"/>
                <a:ext cx="942120" cy="284760"/>
                <a:chOff x="2309760" y="2698560"/>
                <a:chExt cx="942120" cy="28476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230976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30976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251880" y="2698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251880" y="29124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1730160" y="2056320"/>
              <a:ext cx="1956960" cy="285120"/>
              <a:chOff x="1730160" y="2056320"/>
              <a:chExt cx="1956960" cy="28512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1730160" y="2056320"/>
                <a:ext cx="1956960" cy="285120"/>
                <a:chOff x="1730160" y="2056320"/>
                <a:chExt cx="1956960" cy="285120"/>
              </a:xfrm>
            </p:grpSpPr>
            <p:grpSp>
              <p:nvGrpSpPr>
                <p:cNvPr id="871" name=""/>
                <p:cNvGrpSpPr/>
                <p:nvPr/>
              </p:nvGrpSpPr>
              <p:grpSpPr>
                <a:xfrm>
                  <a:off x="1730160" y="2056320"/>
                  <a:ext cx="579600" cy="285120"/>
                  <a:chOff x="1730160" y="2056320"/>
                  <a:chExt cx="579600" cy="2851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802160" y="23414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730160" y="2056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2309760" y="2127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309760" y="22701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252240" y="23414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252240" y="2056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2309760" y="2056320"/>
                <a:ext cx="942120" cy="284760"/>
                <a:chOff x="2309760" y="2056320"/>
                <a:chExt cx="942120" cy="28476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230976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30976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251880" y="2056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251880" y="2270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3" name=""/>
            <p:cNvGrpSpPr/>
            <p:nvPr/>
          </p:nvGrpSpPr>
          <p:grpSpPr>
            <a:xfrm>
              <a:off x="1730160" y="3341160"/>
              <a:ext cx="1956960" cy="285120"/>
              <a:chOff x="1730160" y="3341160"/>
              <a:chExt cx="1956960" cy="285120"/>
            </a:xfrm>
          </p:grpSpPr>
          <p:grpSp>
            <p:nvGrpSpPr>
              <p:cNvPr id="884" name=""/>
              <p:cNvGrpSpPr/>
              <p:nvPr/>
            </p:nvGrpSpPr>
            <p:grpSpPr>
              <a:xfrm>
                <a:off x="1730160" y="3341160"/>
                <a:ext cx="1956960" cy="285120"/>
                <a:chOff x="1730160" y="3341160"/>
                <a:chExt cx="1956960" cy="285120"/>
              </a:xfrm>
            </p:grpSpPr>
            <p:grpSp>
              <p:nvGrpSpPr>
                <p:cNvPr id="885" name=""/>
                <p:cNvGrpSpPr/>
                <p:nvPr/>
              </p:nvGrpSpPr>
              <p:grpSpPr>
                <a:xfrm>
                  <a:off x="1730160" y="3341160"/>
                  <a:ext cx="579600" cy="285120"/>
                  <a:chOff x="1730160" y="3341160"/>
                  <a:chExt cx="579600" cy="28512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1802160" y="362628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1730160" y="33411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" name=""/>
                <p:cNvSpPr/>
                <p:nvPr/>
              </p:nvSpPr>
              <p:spPr>
                <a:xfrm>
                  <a:off x="2309760" y="34120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309760" y="35550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252240" y="36262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252240" y="33411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2309760" y="3341160"/>
                <a:ext cx="942120" cy="284760"/>
                <a:chOff x="2309760" y="3341160"/>
                <a:chExt cx="942120" cy="28476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230976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30976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251880" y="33411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51880" y="355500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7" name=""/>
            <p:cNvGrpSpPr/>
            <p:nvPr/>
          </p:nvGrpSpPr>
          <p:grpSpPr>
            <a:xfrm>
              <a:off x="1874880" y="5767560"/>
              <a:ext cx="1956960" cy="285480"/>
              <a:chOff x="1874880" y="5767560"/>
              <a:chExt cx="1956960" cy="28548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874880" y="5767560"/>
                <a:ext cx="1956960" cy="285480"/>
                <a:chOff x="1874880" y="5767560"/>
                <a:chExt cx="1956960" cy="28548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3252240" y="5767560"/>
                  <a:ext cx="579600" cy="285480"/>
                  <a:chOff x="3252240" y="5767560"/>
                  <a:chExt cx="579600" cy="28548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flipH="1">
                    <a:off x="3252600" y="605304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3252240" y="576756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2" name=""/>
                <p:cNvSpPr/>
                <p:nvPr/>
              </p:nvSpPr>
              <p:spPr>
                <a:xfrm flipH="1">
                  <a:off x="2310120" y="58384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2310120" y="598176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1874880" y="605304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1874880" y="57675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2310120" y="5767560"/>
                <a:ext cx="942120" cy="285120"/>
                <a:chOff x="2310120" y="5767560"/>
                <a:chExt cx="942120" cy="28512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325224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25224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310120" y="57675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310120" y="598176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1" name=""/>
            <p:cNvGrpSpPr/>
            <p:nvPr/>
          </p:nvGrpSpPr>
          <p:grpSpPr>
            <a:xfrm>
              <a:off x="1874880" y="5125320"/>
              <a:ext cx="1956960" cy="285480"/>
              <a:chOff x="1874880" y="5125320"/>
              <a:chExt cx="1956960" cy="2854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1874880" y="5125320"/>
                <a:ext cx="1956960" cy="285480"/>
                <a:chOff x="1874880" y="5125320"/>
                <a:chExt cx="1956960" cy="285480"/>
              </a:xfrm>
            </p:grpSpPr>
            <p:grpSp>
              <p:nvGrpSpPr>
                <p:cNvPr id="913" name=""/>
                <p:cNvGrpSpPr/>
                <p:nvPr/>
              </p:nvGrpSpPr>
              <p:grpSpPr>
                <a:xfrm>
                  <a:off x="3252240" y="5125320"/>
                  <a:ext cx="579600" cy="285480"/>
                  <a:chOff x="3252240" y="5125320"/>
                  <a:chExt cx="579600" cy="28548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 flipH="1">
                    <a:off x="3252600" y="54108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3252240" y="51253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6" name=""/>
                <p:cNvSpPr/>
                <p:nvPr/>
              </p:nvSpPr>
              <p:spPr>
                <a:xfrm flipH="1">
                  <a:off x="2310120" y="51962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2310120" y="53395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1874880" y="54108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1874880" y="51253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2310120" y="5125320"/>
                <a:ext cx="942120" cy="285120"/>
                <a:chOff x="2310120" y="5125320"/>
                <a:chExt cx="942120" cy="28512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325224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25224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2310120" y="51253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310120" y="53395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5" name=""/>
            <p:cNvGrpSpPr/>
            <p:nvPr/>
          </p:nvGrpSpPr>
          <p:grpSpPr>
            <a:xfrm>
              <a:off x="1874880" y="4482720"/>
              <a:ext cx="1956960" cy="285480"/>
              <a:chOff x="1874880" y="4482720"/>
              <a:chExt cx="1956960" cy="28548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1874880" y="4482720"/>
                <a:ext cx="1956960" cy="285480"/>
                <a:chOff x="1874880" y="4482720"/>
                <a:chExt cx="1956960" cy="285480"/>
              </a:xfrm>
            </p:grpSpPr>
            <p:grpSp>
              <p:nvGrpSpPr>
                <p:cNvPr id="927" name=""/>
                <p:cNvGrpSpPr/>
                <p:nvPr/>
              </p:nvGrpSpPr>
              <p:grpSpPr>
                <a:xfrm>
                  <a:off x="3252240" y="4482720"/>
                  <a:ext cx="579600" cy="285480"/>
                  <a:chOff x="3252240" y="4482720"/>
                  <a:chExt cx="579600" cy="285480"/>
                </a:xfrm>
              </p:grpSpPr>
              <p:sp>
                <p:nvSpPr>
                  <p:cNvPr id="928" name=""/>
                  <p:cNvSpPr/>
                  <p:nvPr/>
                </p:nvSpPr>
                <p:spPr>
                  <a:xfrm flipH="1">
                    <a:off x="3252600" y="476820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>
                    <a:off x="3252240" y="448272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0" name=""/>
                <p:cNvSpPr/>
                <p:nvPr/>
              </p:nvSpPr>
              <p:spPr>
                <a:xfrm flipH="1">
                  <a:off x="2310120" y="455364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2310120" y="469692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>
                  <a:off x="1874880" y="476820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1874880" y="448272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2310120" y="4482720"/>
                <a:ext cx="942120" cy="285120"/>
                <a:chOff x="2310120" y="4482720"/>
                <a:chExt cx="942120" cy="285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325224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25224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310120" y="44827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310120" y="46969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9" name=""/>
            <p:cNvGrpSpPr/>
            <p:nvPr/>
          </p:nvGrpSpPr>
          <p:grpSpPr>
            <a:xfrm>
              <a:off x="1874880" y="3840480"/>
              <a:ext cx="1956960" cy="285480"/>
              <a:chOff x="1874880" y="3840480"/>
              <a:chExt cx="1956960" cy="28548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1874880" y="3840480"/>
                <a:ext cx="1956960" cy="285480"/>
                <a:chOff x="1874880" y="3840480"/>
                <a:chExt cx="1956960" cy="285480"/>
              </a:xfrm>
            </p:grpSpPr>
            <p:grpSp>
              <p:nvGrpSpPr>
                <p:cNvPr id="941" name=""/>
                <p:cNvGrpSpPr/>
                <p:nvPr/>
              </p:nvGrpSpPr>
              <p:grpSpPr>
                <a:xfrm>
                  <a:off x="3252240" y="3840480"/>
                  <a:ext cx="579600" cy="285480"/>
                  <a:chOff x="3252240" y="3840480"/>
                  <a:chExt cx="579600" cy="28548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 flipH="1">
                    <a:off x="3252600" y="4125960"/>
                    <a:ext cx="507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>
                    <a:off x="3252240" y="3840480"/>
                    <a:ext cx="57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 flipH="1">
                  <a:off x="2310120" y="391140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2310120" y="4054680"/>
                  <a:ext cx="94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1874880" y="412596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1874880" y="3840480"/>
                  <a:ext cx="434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2310120" y="3840480"/>
                <a:ext cx="942120" cy="285120"/>
                <a:chOff x="2310120" y="3840480"/>
                <a:chExt cx="942120" cy="2851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325224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25224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310120" y="38404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310120" y="405468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3" name=""/>
            <p:cNvSpPr/>
            <p:nvPr/>
          </p:nvSpPr>
          <p:spPr>
            <a:xfrm>
              <a:off x="2415960" y="6053040"/>
              <a:ext cx="68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bou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1066680" y="914400"/>
            <a:ext cx="4343400" cy="5257440"/>
            <a:chOff x="1066680" y="914400"/>
            <a:chExt cx="4343400" cy="5257440"/>
          </a:xfrm>
        </p:grpSpPr>
        <p:pic>
          <p:nvPicPr>
            <p:cNvPr id="956" name="" descr=""/>
            <p:cNvPicPr/>
            <p:nvPr/>
          </p:nvPicPr>
          <p:blipFill>
            <a:blip r:embed="rId1"/>
            <a:srcRect l="0" t="0" r="12987" b="0"/>
            <a:stretch/>
          </p:blipFill>
          <p:spPr>
            <a:xfrm>
              <a:off x="1066680" y="914400"/>
              <a:ext cx="4343400" cy="289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7" name=""/>
            <p:cNvGrpSpPr/>
            <p:nvPr/>
          </p:nvGrpSpPr>
          <p:grpSpPr>
            <a:xfrm>
              <a:off x="1066680" y="3745440"/>
              <a:ext cx="4343400" cy="2426400"/>
              <a:chOff x="1066680" y="3745440"/>
              <a:chExt cx="4343400" cy="2426400"/>
            </a:xfrm>
          </p:grpSpPr>
          <p:pic>
            <p:nvPicPr>
              <p:cNvPr id="9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3745440"/>
                <a:ext cx="4343400" cy="24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>
                <a:off x="2819160" y="3776760"/>
                <a:ext cx="79992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1752480" y="981720"/>
              <a:ext cx="34290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m Prime Channel Differential Insertion L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752480" y="3812760"/>
              <a:ext cx="34290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m Prime Channel Differential Return L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5633640" y="1066680"/>
            <a:ext cx="290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top of 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vias have significa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35440" y="2362320"/>
            <a:ext cx="305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p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Insertion Lo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Insertion Lo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632200" y="3797280"/>
            <a:ext cx="271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bottom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6160" y="4848120"/>
            <a:ext cx="3087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ttom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Return Loss – 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Return Loss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DD11 and SDD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1295280" y="914400"/>
            <a:ext cx="4343400" cy="2666880"/>
            <a:chOff x="1295280" y="914400"/>
            <a:chExt cx="4343400" cy="2666880"/>
          </a:xfrm>
        </p:grpSpPr>
        <p:grpSp>
          <p:nvGrpSpPr>
            <p:cNvPr id="968" name=""/>
            <p:cNvGrpSpPr/>
            <p:nvPr/>
          </p:nvGrpSpPr>
          <p:grpSpPr>
            <a:xfrm>
              <a:off x="1295280" y="914400"/>
              <a:ext cx="4343400" cy="2666880"/>
              <a:chOff x="1295280" y="914400"/>
              <a:chExt cx="4343400" cy="2666880"/>
            </a:xfrm>
          </p:grpSpPr>
          <p:pic>
            <p:nvPicPr>
              <p:cNvPr id="9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914400"/>
                <a:ext cx="4343400" cy="266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>
                <a:off x="3107880" y="949680"/>
                <a:ext cx="71748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3448080" y="947160"/>
              <a:ext cx="11304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295280" y="3657600"/>
            <a:ext cx="4343400" cy="2666880"/>
            <a:chOff x="1295280" y="3657600"/>
            <a:chExt cx="4343400" cy="2666880"/>
          </a:xfrm>
        </p:grpSpPr>
        <p:pic>
          <p:nvPicPr>
            <p:cNvPr id="973" name="" descr=""/>
            <p:cNvPicPr/>
            <p:nvPr/>
          </p:nvPicPr>
          <p:blipFill>
            <a:blip r:embed="rId2"/>
            <a:stretch/>
          </p:blipFill>
          <p:spPr>
            <a:xfrm>
              <a:off x="1295280" y="3657600"/>
              <a:ext cx="43434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3140280" y="3693600"/>
              <a:ext cx="6534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6122520" y="2333520"/>
            <a:ext cx="2836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p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FEXT – Y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FEXT – 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94080" y="4924440"/>
            <a:ext cx="285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ttom Plo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Inbound NEXT – Y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1m Outbound NEXT – Y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and F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838080" y="114300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x reference back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0 m Nelco N4000-13SI with 2 GbX conn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parameter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driven line crosstalk for each of four aggr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aggressors can be superimposed to simulate multiple driven line cross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parameters demonstrate effect of an uncorrected 191.2 mil stub and bottom-side routed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 the inclusion of this channel in the Backplane Ethernet simulation s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MVC-001F" descr=""/>
          <p:cNvPicPr/>
          <p:nvPr/>
        </p:nvPicPr>
        <p:blipFill>
          <a:blip r:embed="rId1"/>
          <a:stretch/>
        </p:blipFill>
        <p:spPr>
          <a:xfrm>
            <a:off x="4191120" y="1871640"/>
            <a:ext cx="4114800" cy="308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28040" y="254160"/>
            <a:ext cx="46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b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ference Backpla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9840" y="5319720"/>
            <a:ext cx="32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 and Design Overview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-Parameter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9160" y="1793880"/>
            <a:ext cx="323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plane Dimen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” x 13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225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154476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Parameters results presented for a 1.0 meter channel length (backplane plus daughter c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ing densities are consistent with Gb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nector column p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 inches of total channel length is contained in each daughter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ing conventions include significant stub lengths to exercise full range of channel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s are routed through passive pinfields with non-terminated backplane connector p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21480" y="24300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 and Design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-457200"/>
            <a:ext cx="5786280" cy="6699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0120" y="965160"/>
            <a:ext cx="34632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ve dielectr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ant is per ParkNel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guide and measu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2.5 GHz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half of bo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ruction is shown. Bott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lf is mirrored below cent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l layer count is 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dermask thick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included in total over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ckness of 225 mil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21480" y="24300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5880" y="3816360"/>
            <a:ext cx="2819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s are edge-coupl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and bottom region channels are sh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rable channel construction is used in passive daughter card buil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 meter channel length is represented in s-parameter d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282680" y="914400"/>
            <a:ext cx="5949360" cy="5163120"/>
            <a:chOff x="1282680" y="914400"/>
            <a:chExt cx="5949360" cy="5163120"/>
          </a:xfrm>
        </p:grpSpPr>
        <p:grpSp>
          <p:nvGrpSpPr>
            <p:cNvPr id="100" name=""/>
            <p:cNvGrpSpPr/>
            <p:nvPr/>
          </p:nvGrpSpPr>
          <p:grpSpPr>
            <a:xfrm>
              <a:off x="1282680" y="914400"/>
              <a:ext cx="5949360" cy="2586240"/>
              <a:chOff x="1282680" y="914400"/>
              <a:chExt cx="5949360" cy="258624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282680" y="1376280"/>
                <a:ext cx="5544720" cy="771480"/>
                <a:chOff x="1282680" y="1376280"/>
                <a:chExt cx="5544720" cy="7714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1282680" y="1376280"/>
                  <a:ext cx="5371560" cy="420480"/>
                  <a:chOff x="1282680" y="1376280"/>
                  <a:chExt cx="5371560" cy="420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282680" y="1376280"/>
                    <a:ext cx="5371560" cy="210240"/>
                    <a:chOff x="1282680" y="1376280"/>
                    <a:chExt cx="5371560" cy="210240"/>
                  </a:xfrm>
                </p:grpSpPr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1282680" y="1376280"/>
                      <a:ext cx="5371560" cy="210240"/>
                      <a:chOff x="1282680" y="1376280"/>
                      <a:chExt cx="5371560" cy="21024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24955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1282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63075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35352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3361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31885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30153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28418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2668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23220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21488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19756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18021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16290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14558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7083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56145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8815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40550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42282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440136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45748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47480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49212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50947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52678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544104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57877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613440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596088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" name=""/>
                      <p:cNvSpPr/>
                      <p:nvPr/>
                    </p:nvSpPr>
                    <p:spPr>
                      <a:xfrm>
                        <a:off x="6480720" y="1376280"/>
                        <a:ext cx="1731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648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1282680" y="1586520"/>
                        <a:ext cx="5371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cc66">
                            <a:alpha val="50000"/>
                          </a:srgbClr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282680" y="1376280"/>
                      <a:ext cx="53715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282680" y="1586520"/>
                    <a:ext cx="5371560" cy="210240"/>
                    <a:chOff x="1282680" y="1586520"/>
                    <a:chExt cx="5371560" cy="21024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1282680" y="1586520"/>
                      <a:ext cx="5371560" cy="210240"/>
                      <a:chOff x="1282680" y="1586520"/>
                      <a:chExt cx="5371560" cy="21024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1282680" y="1586520"/>
                        <a:ext cx="5371560" cy="210240"/>
                      </a:xfrm>
                      <a:prstGeom prst="rect">
                        <a:avLst/>
                      </a:prstGeom>
                      <a:solidFill>
                        <a:srgbClr val="ffcc66">
                          <a:alpha val="50000"/>
                        </a:srgbClr>
                      </a:solidFill>
                      <a:ln w="936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1282680" y="1586520"/>
                        <a:ext cx="5371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cc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1282680" y="1796760"/>
                      <a:ext cx="5371560" cy="0"/>
                    </a:xfrm>
                    <a:prstGeom prst="line">
                      <a:avLst/>
                    </a:prstGeom>
                    <a:ln w="381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1744560" y="1586520"/>
                    <a:ext cx="4504320" cy="0"/>
                    <a:chOff x="1744560" y="1586520"/>
                    <a:chExt cx="4504320" cy="0"/>
                  </a:xfrm>
                </p:grpSpPr>
                <p:grpSp>
                  <p:nvGrpSpPr>
                    <p:cNvPr id="144" name=""/>
                    <p:cNvGrpSpPr/>
                    <p:nvPr/>
                  </p:nvGrpSpPr>
                  <p:grpSpPr>
                    <a:xfrm>
                      <a:off x="1744560" y="1586520"/>
                      <a:ext cx="345960" cy="0"/>
                      <a:chOff x="1744560" y="1586520"/>
                      <a:chExt cx="345960" cy="0"/>
                    </a:xfrm>
                  </p:grpSpPr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174456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19753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4516920" y="1586520"/>
                      <a:ext cx="345960" cy="0"/>
                      <a:chOff x="4516920" y="1586520"/>
                      <a:chExt cx="345960" cy="0"/>
                    </a:xfrm>
                  </p:grpSpPr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45169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474768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3130560" y="1586520"/>
                      <a:ext cx="345960" cy="0"/>
                      <a:chOff x="3130560" y="1586520"/>
                      <a:chExt cx="345960" cy="0"/>
                    </a:xfrm>
                  </p:grpSpPr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313056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33613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5902920" y="1586520"/>
                      <a:ext cx="345960" cy="0"/>
                      <a:chOff x="5902920" y="1586520"/>
                      <a:chExt cx="345960" cy="0"/>
                    </a:xfrm>
                  </p:grpSpPr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590292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6133680" y="1586520"/>
                        <a:ext cx="115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654240" y="1376280"/>
                  <a:ext cx="173160" cy="771480"/>
                  <a:chOff x="6654240" y="1376280"/>
                  <a:chExt cx="173160" cy="7714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6827400" y="1376280"/>
                    <a:ext cx="0" cy="771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654240" y="1376280"/>
                    <a:ext cx="173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6654240" y="1797120"/>
                    <a:ext cx="173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4691160" y="914400"/>
                <a:ext cx="2540880" cy="2586240"/>
                <a:chOff x="4691160" y="914400"/>
                <a:chExt cx="2540880" cy="25862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4691160" y="1308240"/>
                  <a:ext cx="2147760" cy="2192400"/>
                  <a:chOff x="4691160" y="1308240"/>
                  <a:chExt cx="2147760" cy="21924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5854680" y="2494080"/>
                    <a:ext cx="984240" cy="1006560"/>
                  </a:xfrm>
                  <a:prstGeom prst="rect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hannel Pitch Progression  = 1.85 mm TYP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4691160" y="1308240"/>
                    <a:ext cx="1404720" cy="1190520"/>
                    <a:chOff x="4691160" y="1308240"/>
                    <a:chExt cx="1404720" cy="119052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4691160" y="1308240"/>
                      <a:ext cx="0" cy="119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095880" y="1308240"/>
                      <a:ext cx="0" cy="1190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4723920" y="2133720"/>
                      <a:ext cx="1296000" cy="0"/>
                      <a:chOff x="4723920" y="2133720"/>
                      <a:chExt cx="1296000" cy="0"/>
                    </a:xfrm>
                  </p:grpSpPr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5210280" y="2133720"/>
                        <a:ext cx="809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 flipH="1">
                        <a:off x="4723920" y="2133720"/>
                        <a:ext cx="809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614920" y="914400"/>
                  <a:ext cx="1617120" cy="461880"/>
                  <a:chOff x="5614920" y="914400"/>
                  <a:chExt cx="1617120" cy="461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967720" y="914400"/>
                    <a:ext cx="1264320" cy="276480"/>
                  </a:xfrm>
                  <a:prstGeom prst="rect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.25 mil Copper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>
                    <a:off x="5614920" y="1026720"/>
                    <a:ext cx="346320" cy="349560"/>
                  </a:xfrm>
                  <a:prstGeom prst="line">
                    <a:avLst/>
                  </a:prstGeom>
                  <a:ln w="9360">
                    <a:solidFill>
                      <a:srgbClr val="cc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2" name=""/>
            <p:cNvGrpSpPr/>
            <p:nvPr/>
          </p:nvGrpSpPr>
          <p:grpSpPr>
            <a:xfrm>
              <a:off x="1282680" y="1166760"/>
              <a:ext cx="4449240" cy="4910760"/>
              <a:chOff x="1282680" y="1166760"/>
              <a:chExt cx="4449240" cy="4910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3651120" y="2743200"/>
                <a:ext cx="2080800" cy="1778040"/>
                <a:chOff x="3651120" y="2743200"/>
                <a:chExt cx="2080800" cy="17780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651120" y="3697200"/>
                  <a:ext cx="808200" cy="824040"/>
                </a:xfrm>
                <a:prstGeom prst="rect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.6 mil TYP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repreg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eigh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651120" y="2743200"/>
                  <a:ext cx="808200" cy="824040"/>
                </a:xfrm>
                <a:prstGeom prst="rect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.5 mil TYP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re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eigh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82080" y="3368520"/>
                  <a:ext cx="1149840" cy="459000"/>
                </a:xfrm>
                <a:prstGeom prst="rect">
                  <a:avLst/>
                </a:pr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.6 mil Copp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ignal Height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282680" y="1166760"/>
                <a:ext cx="2079720" cy="4910760"/>
                <a:chOff x="1282680" y="1166760"/>
                <a:chExt cx="2079720" cy="491076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282680" y="1166760"/>
                  <a:ext cx="2079720" cy="4910760"/>
                  <a:chOff x="1282680" y="1166760"/>
                  <a:chExt cx="2079720" cy="49107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206800" y="4888440"/>
                    <a:ext cx="810000" cy="1189080"/>
                  </a:xfrm>
                  <a:prstGeom prst="rect">
                    <a:avLst/>
                  </a:prstGeom>
                  <a:noFill/>
                  <a:ln w="93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.75 mil TYP Tr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.25 mil TYP Sp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1282680" y="1166760"/>
                    <a:ext cx="2079720" cy="3084480"/>
                    <a:chOff x="1282680" y="1166760"/>
                    <a:chExt cx="2079720" cy="3084480"/>
                  </a:xfrm>
                </p:grpSpPr>
                <p:grpSp>
                  <p:nvGrpSpPr>
                    <p:cNvPr id="181" name=""/>
                    <p:cNvGrpSpPr/>
                    <p:nvPr/>
                  </p:nvGrpSpPr>
                  <p:grpSpPr>
                    <a:xfrm>
                      <a:off x="1282680" y="2849400"/>
                      <a:ext cx="2079720" cy="1401840"/>
                      <a:chOff x="1282680" y="2849400"/>
                      <a:chExt cx="2079720" cy="1401840"/>
                    </a:xfrm>
                  </p:grpSpPr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1282680" y="2849400"/>
                        <a:ext cx="2079720" cy="1401840"/>
                        <a:chOff x="1282680" y="2849400"/>
                        <a:chExt cx="2079720" cy="1401840"/>
                      </a:xfrm>
                    </p:grpSpPr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1282680" y="2849400"/>
                          <a:ext cx="2079720" cy="700920"/>
                        </a:xfrm>
                        <a:prstGeom prst="rect">
                          <a:avLst/>
                        </a:prstGeom>
                        <a:solidFill>
                          <a:srgbClr val="ffcc66">
                            <a:alpha val="50000"/>
                          </a:srgbClr>
                        </a:solidFill>
                        <a:ln w="9360">
                          <a:solidFill>
                            <a:srgbClr val="ffcc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1282680" y="3550320"/>
                          <a:ext cx="2079720" cy="700920"/>
                        </a:xfrm>
                        <a:prstGeom prst="rect">
                          <a:avLst/>
                        </a:prstGeom>
                        <a:solidFill>
                          <a:srgbClr val="ffcc66">
                            <a:alpha val="50000"/>
                          </a:srgbClr>
                        </a:solidFill>
                        <a:ln w="9360">
                          <a:solidFill>
                            <a:srgbClr val="ffcc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1629000" y="3550320"/>
                        <a:ext cx="4622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553480" y="3550320"/>
                        <a:ext cx="461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1282680" y="1166760"/>
                      <a:ext cx="2079360" cy="1682280"/>
                      <a:chOff x="1282680" y="1166760"/>
                      <a:chExt cx="2079360" cy="1682280"/>
                    </a:xfrm>
                  </p:grpSpPr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1571400" y="1166760"/>
                        <a:ext cx="693000" cy="8413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 flipH="1">
                        <a:off x="1282680" y="1587240"/>
                        <a:ext cx="288720" cy="126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2264400" y="1587240"/>
                        <a:ext cx="1097640" cy="126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1629000" y="3410280"/>
                    <a:ext cx="0" cy="175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91240" y="3410280"/>
                    <a:ext cx="0" cy="175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553480" y="3410280"/>
                    <a:ext cx="0" cy="140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1628640" y="4952880"/>
                    <a:ext cx="461880" cy="0"/>
                    <a:chOff x="1628640" y="4952880"/>
                    <a:chExt cx="461880" cy="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1802160" y="495288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1628640" y="495288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2090880" y="4602240"/>
                    <a:ext cx="461880" cy="0"/>
                    <a:chOff x="2090880" y="4602240"/>
                    <a:chExt cx="461880" cy="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264400" y="460224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 flipH="1">
                      <a:off x="2090880" y="4602240"/>
                      <a:ext cx="288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>
                    <a:off x="1282680" y="2849400"/>
                    <a:ext cx="2079720" cy="0"/>
                  </a:xfrm>
                  <a:prstGeom prst="line">
                    <a:avLst/>
                  </a:prstGeom>
                  <a:ln w="3816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1282680" y="4267080"/>
                  <a:ext cx="205740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1221480" y="24300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795320"/>
            <a:ext cx="5486400" cy="110016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990720" y="990720"/>
            <a:ext cx="3543120" cy="761760"/>
            <a:chOff x="990720" y="990720"/>
            <a:chExt cx="3543120" cy="761760"/>
          </a:xfrm>
        </p:grpSpPr>
        <p:sp>
          <p:nvSpPr>
            <p:cNvPr id="205" name=""/>
            <p:cNvSpPr/>
            <p:nvPr/>
          </p:nvSpPr>
          <p:spPr>
            <a:xfrm>
              <a:off x="990720" y="990720"/>
              <a:ext cx="35431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ransmit–to-Receive Pin M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1419120"/>
              <a:ext cx="2133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bound/Inb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rcRect l="3127" t="31250" r="4688" b="29168"/>
          <a:stretch/>
        </p:blipFill>
        <p:spPr>
          <a:xfrm>
            <a:off x="1249200" y="4062240"/>
            <a:ext cx="5608800" cy="1805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72200" y="990720"/>
            <a:ext cx="27432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transmit ports initiate with J/K terminal pai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receive ports terminate with G/H pai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ent transmit-to-receive pin mapping allows for only one line card port desig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” backplane channel routing is sh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s are blocked in groups of 4 transmit pairs and 4 receive pai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90720" y="3200400"/>
            <a:ext cx="4724280" cy="809640"/>
            <a:chOff x="990720" y="3200400"/>
            <a:chExt cx="4724280" cy="809640"/>
          </a:xfrm>
        </p:grpSpPr>
        <p:sp>
          <p:nvSpPr>
            <p:cNvPr id="210" name=""/>
            <p:cNvSpPr/>
            <p:nvPr/>
          </p:nvSpPr>
          <p:spPr>
            <a:xfrm>
              <a:off x="990720" y="3200400"/>
              <a:ext cx="472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ransmit–to-Receive Pin Map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bound Traffic Moves Left-to-Right      Tx             Rx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bound Traffic Moves Right-to-Left        Rx             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2428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724280" y="380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221120" y="24300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865080"/>
            <a:ext cx="5672160" cy="2563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486080" y="952560"/>
            <a:ext cx="39240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utbound Traffic – 1 meter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143000" y="1986120"/>
            <a:ext cx="5672160" cy="403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3657600"/>
            <a:ext cx="51814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bound Traffic – 1 meter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7680" y="1371600"/>
            <a:ext cx="2894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top of 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meter outbound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as have significant stub to assess channel robustn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3949560"/>
            <a:ext cx="2743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uction Not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b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routed in bottom of  PC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meter inbound channel length designed without stub to allow for channel performance comparis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22560" y="243000"/>
            <a:ext cx="30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22920" y="2430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154476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:  X1 cm (X2 in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:  Nelco N4000-13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ughter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: Y1 cm (Y2 in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:  ZZ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Length: W1 cm (W2 in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b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ors: 2 G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2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Parameter Procedure and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9360" y="914400"/>
            <a:ext cx="4221720" cy="5181120"/>
            <a:chOff x="459360" y="914400"/>
            <a:chExt cx="4221720" cy="5181120"/>
          </a:xfrm>
        </p:grpSpPr>
        <p:grpSp>
          <p:nvGrpSpPr>
            <p:cNvPr id="225" name=""/>
            <p:cNvGrpSpPr/>
            <p:nvPr/>
          </p:nvGrpSpPr>
          <p:grpSpPr>
            <a:xfrm>
              <a:off x="459360" y="1243080"/>
              <a:ext cx="4221720" cy="4852440"/>
              <a:chOff x="459360" y="1243080"/>
              <a:chExt cx="4221720" cy="485244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254960" y="1243080"/>
                <a:ext cx="2567880" cy="4852440"/>
                <a:chOff x="1254960" y="1243080"/>
                <a:chExt cx="2567880" cy="485244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1254960" y="1487880"/>
                  <a:ext cx="2567880" cy="4361760"/>
                  <a:chOff x="1254960" y="1487880"/>
                  <a:chExt cx="2567880" cy="4361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1254960" y="1487880"/>
                    <a:ext cx="2567880" cy="4361760"/>
                    <a:chOff x="1254960" y="1487880"/>
                    <a:chExt cx="2567880" cy="4361760"/>
                  </a:xfrm>
                </p:grpSpPr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3043080" y="1487880"/>
                      <a:ext cx="779760" cy="4361760"/>
                      <a:chOff x="3043080" y="1487880"/>
                      <a:chExt cx="779760" cy="436176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057840" y="1487880"/>
                        <a:ext cx="739800" cy="4361760"/>
                      </a:xfrm>
                      <a:prstGeom prst="rect">
                        <a:avLst/>
                      </a:prstGeom>
                      <a:solidFill>
                        <a:srgbClr val="99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1" name=""/>
                      <p:cNvGrpSpPr/>
                      <p:nvPr/>
                    </p:nvGrpSpPr>
                    <p:grpSpPr>
                      <a:xfrm>
                        <a:off x="3043080" y="1533240"/>
                        <a:ext cx="779760" cy="4269600"/>
                        <a:chOff x="3043080" y="1533240"/>
                        <a:chExt cx="779760" cy="4269600"/>
                      </a:xfrm>
                    </p:grpSpPr>
                    <p:grpSp>
                      <p:nvGrpSpPr>
                        <p:cNvPr id="232" name=""/>
                        <p:cNvGrpSpPr/>
                        <p:nvPr/>
                      </p:nvGrpSpPr>
                      <p:grpSpPr>
                        <a:xfrm>
                          <a:off x="3043080" y="1533240"/>
                          <a:ext cx="779760" cy="4269600"/>
                          <a:chOff x="3043080" y="1533240"/>
                          <a:chExt cx="779760" cy="4269600"/>
                        </a:xfrm>
                      </p:grpSpPr>
                      <p:sp>
                        <p:nvSpPr>
                          <p:cNvPr id="233" name=""/>
                          <p:cNvSpPr/>
                          <p:nvPr/>
                        </p:nvSpPr>
                        <p:spPr>
                          <a:xfrm rot="13508400">
                            <a:off x="3119760" y="160920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4" name=""/>
                          <p:cNvSpPr/>
                          <p:nvPr/>
                        </p:nvSpPr>
                        <p:spPr>
                          <a:xfrm rot="13508400">
                            <a:off x="3119760" y="216180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5" name=""/>
                          <p:cNvSpPr/>
                          <p:nvPr/>
                        </p:nvSpPr>
                        <p:spPr>
                          <a:xfrm rot="13508400">
                            <a:off x="3119760" y="271476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6" name=""/>
                          <p:cNvSpPr/>
                          <p:nvPr/>
                        </p:nvSpPr>
                        <p:spPr>
                          <a:xfrm rot="13508400">
                            <a:off x="3119760" y="326772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3333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7" name=""/>
                          <p:cNvSpPr/>
                          <p:nvPr/>
                        </p:nvSpPr>
                        <p:spPr>
                          <a:xfrm flipH="1" rot="8091600">
                            <a:off x="3377520" y="369792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8" name=""/>
                          <p:cNvSpPr/>
                          <p:nvPr/>
                        </p:nvSpPr>
                        <p:spPr>
                          <a:xfrm flipH="1" rot="8091600">
                            <a:off x="3377520" y="425088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9" name=""/>
                          <p:cNvSpPr/>
                          <p:nvPr/>
                        </p:nvSpPr>
                        <p:spPr>
                          <a:xfrm flipH="1" rot="8091600">
                            <a:off x="3377520" y="480384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0" name=""/>
                          <p:cNvSpPr/>
                          <p:nvPr/>
                        </p:nvSpPr>
                        <p:spPr>
                          <a:xfrm flipH="1" rot="8091600">
                            <a:off x="3377520" y="5356800"/>
                            <a:ext cx="368280" cy="369720"/>
                          </a:xfrm>
                          <a:prstGeom prst="rtTriangle">
                            <a:avLst/>
                          </a:prstGeom>
                          <a:noFill/>
                          <a:ln w="19080">
                            <a:solidFill>
                              <a:srgbClr val="cc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" name=""/>
                        <p:cNvGrpSpPr/>
                        <p:nvPr/>
                      </p:nvGrpSpPr>
                      <p:grpSpPr>
                        <a:xfrm>
                          <a:off x="3242520" y="1856160"/>
                          <a:ext cx="184320" cy="3808440"/>
                          <a:chOff x="3242520" y="1856160"/>
                          <a:chExt cx="184320" cy="3808440"/>
                        </a:xfrm>
                      </p:grpSpPr>
                      <p:sp>
                        <p:nvSpPr>
                          <p:cNvPr id="242" name=""/>
                          <p:cNvSpPr/>
                          <p:nvPr/>
                        </p:nvSpPr>
                        <p:spPr>
                          <a:xfrm>
                            <a:off x="3242520" y="185616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>
                            <a:off x="3242520" y="240876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3242520" y="296172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3242520" y="351468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3365280" y="394452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3365280" y="560340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3365280" y="505044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9" name=""/>
                          <p:cNvSpPr/>
                          <p:nvPr/>
                        </p:nvSpPr>
                        <p:spPr>
                          <a:xfrm>
                            <a:off x="3365280" y="449748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1254960" y="1487880"/>
                      <a:ext cx="768600" cy="4361760"/>
                      <a:chOff x="1254960" y="1487880"/>
                      <a:chExt cx="768600" cy="436176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1270080" y="1487880"/>
                        <a:ext cx="739800" cy="4361760"/>
                      </a:xfrm>
                      <a:prstGeom prst="rect">
                        <a:avLst/>
                      </a:prstGeom>
                      <a:solidFill>
                        <a:srgbClr val="99ff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2" name=""/>
                      <p:cNvGrpSpPr/>
                      <p:nvPr/>
                    </p:nvGrpSpPr>
                    <p:grpSpPr>
                      <a:xfrm>
                        <a:off x="1254960" y="1533240"/>
                        <a:ext cx="768600" cy="4269240"/>
                        <a:chOff x="1254960" y="1533240"/>
                        <a:chExt cx="768600" cy="4269240"/>
                      </a:xfrm>
                    </p:grpSpPr>
                    <p:grpSp>
                      <p:nvGrpSpPr>
                        <p:cNvPr id="253" name=""/>
                        <p:cNvGrpSpPr/>
                        <p:nvPr/>
                      </p:nvGrpSpPr>
                      <p:grpSpPr>
                        <a:xfrm>
                          <a:off x="1254960" y="1533240"/>
                          <a:ext cx="768600" cy="4269240"/>
                          <a:chOff x="1254960" y="1533240"/>
                          <a:chExt cx="768600" cy="4269240"/>
                        </a:xfrm>
                      </p:grpSpPr>
                      <p:grpSp>
                        <p:nvGrpSpPr>
                          <p:cNvPr id="254" name=""/>
                          <p:cNvGrpSpPr/>
                          <p:nvPr/>
                        </p:nvGrpSpPr>
                        <p:grpSpPr>
                          <a:xfrm>
                            <a:off x="1254960" y="1533240"/>
                            <a:ext cx="522000" cy="2180520"/>
                            <a:chOff x="1254960" y="1533240"/>
                            <a:chExt cx="522000" cy="2180520"/>
                          </a:xfrm>
                        </p:grpSpPr>
                        <p:sp>
                          <p:nvSpPr>
                            <p:cNvPr id="255" name=""/>
                            <p:cNvSpPr/>
                            <p:nvPr/>
                          </p:nvSpPr>
                          <p:spPr>
                            <a:xfrm rot="13508400">
                              <a:off x="1331640" y="160920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6" name=""/>
                            <p:cNvSpPr/>
                            <p:nvPr/>
                          </p:nvSpPr>
                          <p:spPr>
                            <a:xfrm rot="13508400">
                              <a:off x="1331640" y="216180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7" name=""/>
                            <p:cNvSpPr/>
                            <p:nvPr/>
                          </p:nvSpPr>
                          <p:spPr>
                            <a:xfrm rot="13508400">
                              <a:off x="1331640" y="271476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8" name=""/>
                            <p:cNvSpPr/>
                            <p:nvPr/>
                          </p:nvSpPr>
                          <p:spPr>
                            <a:xfrm rot="13508400">
                              <a:off x="1331640" y="326772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cc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9" name=""/>
                          <p:cNvGrpSpPr/>
                          <p:nvPr/>
                        </p:nvGrpSpPr>
                        <p:grpSpPr>
                          <a:xfrm>
                            <a:off x="1501560" y="3621960"/>
                            <a:ext cx="522000" cy="2180520"/>
                            <a:chOff x="1501560" y="3621960"/>
                            <a:chExt cx="522000" cy="2180520"/>
                          </a:xfrm>
                        </p:grpSpPr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 flipH="1" rot="8091600">
                              <a:off x="1578240" y="369792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 flipH="1" rot="8091600">
                              <a:off x="1578240" y="425052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2" name=""/>
                            <p:cNvSpPr/>
                            <p:nvPr/>
                          </p:nvSpPr>
                          <p:spPr>
                            <a:xfrm flipH="1" rot="8091600">
                              <a:off x="1578240" y="480348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3" name=""/>
                            <p:cNvSpPr/>
                            <p:nvPr/>
                          </p:nvSpPr>
                          <p:spPr>
                            <a:xfrm flipH="1" rot="8091600">
                              <a:off x="1578240" y="5356440"/>
                              <a:ext cx="368280" cy="369720"/>
                            </a:xfrm>
                            <a:prstGeom prst="rtTriangle">
                              <a:avLst/>
                            </a:prstGeom>
                            <a:noFill/>
                            <a:ln w="19080">
                              <a:solidFill>
                                <a:srgbClr val="3333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4" name=""/>
                        <p:cNvGrpSpPr/>
                        <p:nvPr/>
                      </p:nvGrpSpPr>
                      <p:grpSpPr>
                        <a:xfrm>
                          <a:off x="1639440" y="1856160"/>
                          <a:ext cx="184320" cy="3808440"/>
                          <a:chOff x="1639440" y="1856160"/>
                          <a:chExt cx="184320" cy="3808440"/>
                        </a:xfrm>
                      </p:grpSpPr>
                      <p:sp>
                        <p:nvSpPr>
                          <p:cNvPr id="265" name=""/>
                          <p:cNvSpPr/>
                          <p:nvPr/>
                        </p:nvSpPr>
                        <p:spPr>
                          <a:xfrm>
                            <a:off x="1762200" y="394452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6" name=""/>
                          <p:cNvSpPr/>
                          <p:nvPr/>
                        </p:nvSpPr>
                        <p:spPr>
                          <a:xfrm>
                            <a:off x="1762200" y="449748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7" name=""/>
                          <p:cNvSpPr/>
                          <p:nvPr/>
                        </p:nvSpPr>
                        <p:spPr>
                          <a:xfrm>
                            <a:off x="1762200" y="505044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8" name=""/>
                          <p:cNvSpPr/>
                          <p:nvPr/>
                        </p:nvSpPr>
                        <p:spPr>
                          <a:xfrm>
                            <a:off x="1762200" y="5603400"/>
                            <a:ext cx="61560" cy="61200"/>
                          </a:xfrm>
                          <a:prstGeom prst="ellipse">
                            <a:avLst/>
                          </a:prstGeom>
                          <a:solidFill>
                            <a:srgbClr val="3333cc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9" name=""/>
                          <p:cNvSpPr/>
                          <p:nvPr/>
                        </p:nvSpPr>
                        <p:spPr>
                          <a:xfrm>
                            <a:off x="1639440" y="296172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0" name=""/>
                          <p:cNvSpPr/>
                          <p:nvPr/>
                        </p:nvSpPr>
                        <p:spPr>
                          <a:xfrm>
                            <a:off x="1639440" y="240876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1" name=""/>
                          <p:cNvSpPr/>
                          <p:nvPr/>
                        </p:nvSpPr>
                        <p:spPr>
                          <a:xfrm>
                            <a:off x="1639440" y="351468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2" name=""/>
                          <p:cNvSpPr/>
                          <p:nvPr/>
                        </p:nvSpPr>
                        <p:spPr>
                          <a:xfrm>
                            <a:off x="1639440" y="1856160"/>
                            <a:ext cx="61200" cy="6120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" bIns="-3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3221280" y="1685520"/>
                    <a:ext cx="464760" cy="4021200"/>
                    <a:chOff x="3221280" y="1685520"/>
                    <a:chExt cx="464760" cy="402120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3227040" y="168552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3227040" y="228276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3227040" y="283716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3221280" y="3391200"/>
                      <a:ext cx="37872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x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H="1">
                      <a:off x="3299760" y="376992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>
                      <a:off x="3299760" y="437652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>
                      <a:off x="3299760" y="492156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>
                      <a:off x="3313080" y="5475600"/>
                      <a:ext cx="372600" cy="23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x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414800" y="1670760"/>
                    <a:ext cx="457920" cy="4018680"/>
                    <a:chOff x="1414800" y="1670760"/>
                    <a:chExt cx="457920" cy="401868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1414800" y="1670760"/>
                      <a:ext cx="378720" cy="1938960"/>
                      <a:chOff x="1414800" y="1670760"/>
                      <a:chExt cx="378720" cy="193896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1420920" y="167076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1420920" y="227268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1420920" y="282528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3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1414800" y="3378600"/>
                        <a:ext cx="37260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x4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8" name=""/>
                    <p:cNvGrpSpPr/>
                    <p:nvPr/>
                  </p:nvGrpSpPr>
                  <p:grpSpPr>
                    <a:xfrm>
                      <a:off x="1486800" y="3753360"/>
                      <a:ext cx="385920" cy="1936080"/>
                      <a:chOff x="1486800" y="3753360"/>
                      <a:chExt cx="385920" cy="1936080"/>
                    </a:xfrm>
                  </p:grpSpPr>
                  <p:sp>
                    <p:nvSpPr>
                      <p:cNvPr id="289" name=""/>
                      <p:cNvSpPr/>
                      <p:nvPr/>
                    </p:nvSpPr>
                    <p:spPr>
                      <a:xfrm flipH="1">
                        <a:off x="1486800" y="375336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5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" name=""/>
                      <p:cNvSpPr/>
                      <p:nvPr/>
                    </p:nvSpPr>
                    <p:spPr>
                      <a:xfrm flipH="1">
                        <a:off x="1486800" y="436104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6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 flipH="1">
                        <a:off x="1486800" y="491400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7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 flipH="1">
                        <a:off x="1494000" y="5458320"/>
                        <a:ext cx="37872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Rx8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1639800" y="1243080"/>
                  <a:ext cx="1787040" cy="4852440"/>
                  <a:chOff x="1639800" y="1243080"/>
                  <a:chExt cx="1787040" cy="485244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2171520" y="1243080"/>
                    <a:ext cx="700560" cy="4852440"/>
                    <a:chOff x="2171520" y="1243080"/>
                    <a:chExt cx="700560" cy="4852440"/>
                  </a:xfrm>
                </p:grpSpPr>
                <p:grpSp>
                  <p:nvGrpSpPr>
                    <p:cNvPr id="295" name=""/>
                    <p:cNvGrpSpPr/>
                    <p:nvPr/>
                  </p:nvGrpSpPr>
                  <p:grpSpPr>
                    <a:xfrm>
                      <a:off x="2171520" y="1243080"/>
                      <a:ext cx="700560" cy="2395440"/>
                      <a:chOff x="2171520" y="1243080"/>
                      <a:chExt cx="700560" cy="2395440"/>
                    </a:xfrm>
                  </p:grpSpPr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2194200" y="1243080"/>
                        <a:ext cx="677880" cy="239544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cc0000"/>
                        </a:solidFill>
                        <a:prstDash val="lgDashDot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2171520" y="1291680"/>
                        <a:ext cx="691200" cy="398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utboun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raffic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8" name=""/>
                    <p:cNvGrpSpPr/>
                    <p:nvPr/>
                  </p:nvGrpSpPr>
                  <p:grpSpPr>
                    <a:xfrm>
                      <a:off x="2194200" y="3700080"/>
                      <a:ext cx="677880" cy="2395440"/>
                      <a:chOff x="2194200" y="3700080"/>
                      <a:chExt cx="677880" cy="2395440"/>
                    </a:xfrm>
                  </p:grpSpPr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2194200" y="3700080"/>
                        <a:ext cx="677880" cy="2395440"/>
                      </a:xfrm>
                      <a:prstGeom prst="rect">
                        <a:avLst/>
                      </a:prstGeom>
                      <a:solidFill>
                        <a:srgbClr val="ccffcc"/>
                      </a:solidFill>
                      <a:ln w="9360">
                        <a:solidFill>
                          <a:srgbClr val="cc0000"/>
                        </a:solidFill>
                        <a:prstDash val="lgDashDot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2214360" y="5683320"/>
                        <a:ext cx="607320" cy="398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Inbound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Traffic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1639800" y="1672920"/>
                    <a:ext cx="1663920" cy="245160"/>
                    <a:chOff x="1639800" y="1672920"/>
                    <a:chExt cx="1663920" cy="24516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1639800" y="1672920"/>
                      <a:ext cx="1663920" cy="245160"/>
                      <a:chOff x="1639800" y="1672920"/>
                      <a:chExt cx="1663920" cy="245160"/>
                    </a:xfrm>
                  </p:grpSpPr>
                  <p:grpSp>
                    <p:nvGrpSpPr>
                      <p:cNvPr id="303" name=""/>
                      <p:cNvGrpSpPr/>
                      <p:nvPr/>
                    </p:nvGrpSpPr>
                    <p:grpSpPr>
                      <a:xfrm>
                        <a:off x="1639800" y="1672920"/>
                        <a:ext cx="492840" cy="245160"/>
                        <a:chOff x="1639800" y="1672920"/>
                        <a:chExt cx="492840" cy="245160"/>
                      </a:xfrm>
                    </p:grpSpPr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1701000" y="191808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1639800" y="167292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2132640" y="173376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2132640" y="18568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2934000" y="19180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2934000" y="167292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0" name=""/>
                    <p:cNvGrpSpPr/>
                    <p:nvPr/>
                  </p:nvGrpSpPr>
                  <p:grpSpPr>
                    <a:xfrm>
                      <a:off x="2132640" y="1672920"/>
                      <a:ext cx="801360" cy="244800"/>
                      <a:chOff x="2132640" y="1672920"/>
                      <a:chExt cx="801360" cy="244800"/>
                    </a:xfrm>
                  </p:grpSpPr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2132640" y="1856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2132640" y="167292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2934000" y="167292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2934000" y="1856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1639800" y="2778480"/>
                    <a:ext cx="1663920" cy="245160"/>
                    <a:chOff x="1639800" y="2778480"/>
                    <a:chExt cx="1663920" cy="245160"/>
                  </a:xfrm>
                </p:grpSpPr>
                <p:grpSp>
                  <p:nvGrpSpPr>
                    <p:cNvPr id="316" name=""/>
                    <p:cNvGrpSpPr/>
                    <p:nvPr/>
                  </p:nvGrpSpPr>
                  <p:grpSpPr>
                    <a:xfrm>
                      <a:off x="1639800" y="2778480"/>
                      <a:ext cx="1663920" cy="245160"/>
                      <a:chOff x="1639800" y="2778480"/>
                      <a:chExt cx="1663920" cy="245160"/>
                    </a:xfrm>
                  </p:grpSpPr>
                  <p:grpSp>
                    <p:nvGrpSpPr>
                      <p:cNvPr id="317" name=""/>
                      <p:cNvGrpSpPr/>
                      <p:nvPr/>
                    </p:nvGrpSpPr>
                    <p:grpSpPr>
                      <a:xfrm>
                        <a:off x="1639800" y="2778480"/>
                        <a:ext cx="492840" cy="245160"/>
                        <a:chOff x="1639800" y="2778480"/>
                        <a:chExt cx="492840" cy="245160"/>
                      </a:xfrm>
                    </p:grpSpPr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1701000" y="302364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>
                          <a:off x="1639800" y="27784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2132640" y="283932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2132640" y="29624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2934000" y="30236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2934000" y="27784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2132640" y="2778480"/>
                      <a:ext cx="801360" cy="244800"/>
                      <a:chOff x="2132640" y="2778480"/>
                      <a:chExt cx="801360" cy="244800"/>
                    </a:xfrm>
                  </p:grpSpPr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2132640" y="2962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2132640" y="27784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2934000" y="27784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2934000" y="2962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1639800" y="2225880"/>
                    <a:ext cx="1663920" cy="245160"/>
                    <a:chOff x="1639800" y="2225880"/>
                    <a:chExt cx="1663920" cy="245160"/>
                  </a:xfrm>
                </p:grpSpPr>
                <p:grpSp>
                  <p:nvGrpSpPr>
                    <p:cNvPr id="330" name=""/>
                    <p:cNvGrpSpPr/>
                    <p:nvPr/>
                  </p:nvGrpSpPr>
                  <p:grpSpPr>
                    <a:xfrm>
                      <a:off x="1639800" y="2225880"/>
                      <a:ext cx="1663920" cy="245160"/>
                      <a:chOff x="1639800" y="2225880"/>
                      <a:chExt cx="1663920" cy="245160"/>
                    </a:xfrm>
                  </p:grpSpPr>
                  <p:grpSp>
                    <p:nvGrpSpPr>
                      <p:cNvPr id="331" name=""/>
                      <p:cNvGrpSpPr/>
                      <p:nvPr/>
                    </p:nvGrpSpPr>
                    <p:grpSpPr>
                      <a:xfrm>
                        <a:off x="1639800" y="2225880"/>
                        <a:ext cx="492840" cy="245160"/>
                        <a:chOff x="1639800" y="2225880"/>
                        <a:chExt cx="492840" cy="245160"/>
                      </a:xfrm>
                    </p:grpSpPr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1701000" y="247104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>
                          <a:off x="1639800" y="22258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2132640" y="228672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2132640" y="24098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2934000" y="24710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2934000" y="22258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8" name=""/>
                    <p:cNvGrpSpPr/>
                    <p:nvPr/>
                  </p:nvGrpSpPr>
                  <p:grpSpPr>
                    <a:xfrm>
                      <a:off x="2132640" y="2225880"/>
                      <a:ext cx="801360" cy="244800"/>
                      <a:chOff x="2132640" y="2225880"/>
                      <a:chExt cx="801360" cy="244800"/>
                    </a:xfrm>
                  </p:grpSpPr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2132640" y="24098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2132640" y="2225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2934000" y="222588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2934000" y="24098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1639800" y="3331440"/>
                    <a:ext cx="1663920" cy="245160"/>
                    <a:chOff x="1639800" y="3331440"/>
                    <a:chExt cx="1663920" cy="245160"/>
                  </a:xfrm>
                </p:grpSpPr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1639800" y="3331440"/>
                      <a:ext cx="1663920" cy="245160"/>
                      <a:chOff x="1639800" y="3331440"/>
                      <a:chExt cx="1663920" cy="245160"/>
                    </a:xfrm>
                  </p:grpSpPr>
                  <p:grpSp>
                    <p:nvGrpSpPr>
                      <p:cNvPr id="345" name=""/>
                      <p:cNvGrpSpPr/>
                      <p:nvPr/>
                    </p:nvGrpSpPr>
                    <p:grpSpPr>
                      <a:xfrm>
                        <a:off x="1639800" y="3331440"/>
                        <a:ext cx="492840" cy="245160"/>
                        <a:chOff x="1639800" y="3331440"/>
                        <a:chExt cx="492840" cy="245160"/>
                      </a:xfrm>
                    </p:grpSpPr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>
                          <a:off x="1701000" y="357660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>
                          <a:off x="1639800" y="333144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2132640" y="33922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2132640" y="351540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2934000" y="357660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2934000" y="33314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2" name=""/>
                    <p:cNvGrpSpPr/>
                    <p:nvPr/>
                  </p:nvGrpSpPr>
                  <p:grpSpPr>
                    <a:xfrm>
                      <a:off x="2132640" y="3331440"/>
                      <a:ext cx="801360" cy="244800"/>
                      <a:chOff x="2132640" y="3331440"/>
                      <a:chExt cx="801360" cy="244800"/>
                    </a:xfrm>
                  </p:grpSpPr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2132640" y="351540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2132640" y="3331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2934000" y="333144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2934000" y="3515400"/>
                        <a:ext cx="0" cy="60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1762920" y="5419440"/>
                    <a:ext cx="1663920" cy="245520"/>
                    <a:chOff x="1762920" y="5419440"/>
                    <a:chExt cx="1663920" cy="245520"/>
                  </a:xfrm>
                </p:grpSpPr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1762920" y="5419440"/>
                      <a:ext cx="1663920" cy="245520"/>
                      <a:chOff x="1762920" y="5419440"/>
                      <a:chExt cx="1663920" cy="245520"/>
                    </a:xfrm>
                  </p:grpSpPr>
                  <p:grpSp>
                    <p:nvGrpSpPr>
                      <p:cNvPr id="359" name=""/>
                      <p:cNvGrpSpPr/>
                      <p:nvPr/>
                    </p:nvGrpSpPr>
                    <p:grpSpPr>
                      <a:xfrm>
                        <a:off x="2934000" y="5419440"/>
                        <a:ext cx="492840" cy="245520"/>
                        <a:chOff x="2934000" y="5419440"/>
                        <a:chExt cx="492840" cy="245520"/>
                      </a:xfrm>
                    </p:grpSpPr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 flipH="1">
                          <a:off x="2934360" y="566496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 flipH="1">
                          <a:off x="2934000" y="541944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"/>
                      <p:cNvSpPr/>
                      <p:nvPr/>
                    </p:nvSpPr>
                    <p:spPr>
                      <a:xfrm flipH="1">
                        <a:off x="2132640" y="54806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"/>
                      <p:cNvSpPr/>
                      <p:nvPr/>
                    </p:nvSpPr>
                    <p:spPr>
                      <a:xfrm flipH="1">
                        <a:off x="2132640" y="560376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 flipH="1">
                        <a:off x="1762920" y="566496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 flipH="1">
                        <a:off x="1762920" y="54194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6" name=""/>
                    <p:cNvGrpSpPr/>
                    <p:nvPr/>
                  </p:nvGrpSpPr>
                  <p:grpSpPr>
                    <a:xfrm>
                      <a:off x="2132640" y="5419440"/>
                      <a:ext cx="801360" cy="245520"/>
                      <a:chOff x="2132640" y="5419440"/>
                      <a:chExt cx="801360" cy="245520"/>
                    </a:xfrm>
                  </p:grpSpPr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2934000" y="56037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2934000" y="54194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2132640" y="54194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2132640" y="56037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1762920" y="4866840"/>
                    <a:ext cx="1663920" cy="245520"/>
                    <a:chOff x="1762920" y="4866840"/>
                    <a:chExt cx="1663920" cy="245520"/>
                  </a:xfrm>
                </p:grpSpPr>
                <p:grpSp>
                  <p:nvGrpSpPr>
                    <p:cNvPr id="372" name=""/>
                    <p:cNvGrpSpPr/>
                    <p:nvPr/>
                  </p:nvGrpSpPr>
                  <p:grpSpPr>
                    <a:xfrm>
                      <a:off x="1762920" y="4866840"/>
                      <a:ext cx="1663920" cy="245520"/>
                      <a:chOff x="1762920" y="4866840"/>
                      <a:chExt cx="1663920" cy="245520"/>
                    </a:xfrm>
                  </p:grpSpPr>
                  <p:grpSp>
                    <p:nvGrpSpPr>
                      <p:cNvPr id="373" name=""/>
                      <p:cNvGrpSpPr/>
                      <p:nvPr/>
                    </p:nvGrpSpPr>
                    <p:grpSpPr>
                      <a:xfrm>
                        <a:off x="2934000" y="4866840"/>
                        <a:ext cx="492840" cy="245520"/>
                        <a:chOff x="2934000" y="4866840"/>
                        <a:chExt cx="492840" cy="245520"/>
                      </a:xfrm>
                    </p:grpSpPr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 flipH="1">
                          <a:off x="2934360" y="511236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 flipH="1">
                          <a:off x="2934000" y="486684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6" name=""/>
                      <p:cNvSpPr/>
                      <p:nvPr/>
                    </p:nvSpPr>
                    <p:spPr>
                      <a:xfrm flipH="1">
                        <a:off x="2132640" y="492804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 flipH="1">
                        <a:off x="2132640" y="505116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 flipH="1">
                        <a:off x="1762920" y="511236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 flipH="1">
                        <a:off x="1762920" y="486684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32640" y="4866840"/>
                      <a:ext cx="801360" cy="245520"/>
                      <a:chOff x="2132640" y="4866840"/>
                      <a:chExt cx="801360" cy="24552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934000" y="50511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934000" y="48668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32640" y="486684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132640" y="505116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1762920" y="4313880"/>
                    <a:ext cx="1663920" cy="245520"/>
                    <a:chOff x="1762920" y="4313880"/>
                    <a:chExt cx="1663920" cy="245520"/>
                  </a:xfrm>
                </p:grpSpPr>
                <p:grpSp>
                  <p:nvGrpSpPr>
                    <p:cNvPr id="386" name=""/>
                    <p:cNvGrpSpPr/>
                    <p:nvPr/>
                  </p:nvGrpSpPr>
                  <p:grpSpPr>
                    <a:xfrm>
                      <a:off x="1762920" y="4313880"/>
                      <a:ext cx="1663920" cy="245520"/>
                      <a:chOff x="1762920" y="4313880"/>
                      <a:chExt cx="1663920" cy="245520"/>
                    </a:xfrm>
                  </p:grpSpPr>
                  <p:grpSp>
                    <p:nvGrpSpPr>
                      <p:cNvPr id="387" name=""/>
                      <p:cNvGrpSpPr/>
                      <p:nvPr/>
                    </p:nvGrpSpPr>
                    <p:grpSpPr>
                      <a:xfrm>
                        <a:off x="2934000" y="4313880"/>
                        <a:ext cx="492840" cy="245520"/>
                        <a:chOff x="2934000" y="4313880"/>
                        <a:chExt cx="492840" cy="245520"/>
                      </a:xfrm>
                    </p:grpSpPr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 flipH="1">
                          <a:off x="2934360" y="455940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 flipH="1">
                          <a:off x="2934000" y="43138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0" name=""/>
                      <p:cNvSpPr/>
                      <p:nvPr/>
                    </p:nvSpPr>
                    <p:spPr>
                      <a:xfrm flipH="1">
                        <a:off x="2132640" y="43750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 flipH="1">
                        <a:off x="2132640" y="449820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 flipH="1">
                        <a:off x="1762920" y="455940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 flipH="1">
                        <a:off x="1762920" y="43138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4" name=""/>
                    <p:cNvGrpSpPr/>
                    <p:nvPr/>
                  </p:nvGrpSpPr>
                  <p:grpSpPr>
                    <a:xfrm>
                      <a:off x="2132640" y="4313880"/>
                      <a:ext cx="801360" cy="245520"/>
                      <a:chOff x="2132640" y="4313880"/>
                      <a:chExt cx="801360" cy="245520"/>
                    </a:xfrm>
                  </p:grpSpPr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2934000" y="44982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2934000" y="43138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2132640" y="43138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2132640" y="44982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762920" y="3761280"/>
                    <a:ext cx="1663920" cy="245520"/>
                    <a:chOff x="1762920" y="3761280"/>
                    <a:chExt cx="1663920" cy="245520"/>
                  </a:xfrm>
                </p:grpSpPr>
                <p:grpSp>
                  <p:nvGrpSpPr>
                    <p:cNvPr id="400" name=""/>
                    <p:cNvGrpSpPr/>
                    <p:nvPr/>
                  </p:nvGrpSpPr>
                  <p:grpSpPr>
                    <a:xfrm>
                      <a:off x="1762920" y="3761280"/>
                      <a:ext cx="1663920" cy="245520"/>
                      <a:chOff x="1762920" y="3761280"/>
                      <a:chExt cx="1663920" cy="245520"/>
                    </a:xfrm>
                  </p:grpSpPr>
                  <p:grpSp>
                    <p:nvGrpSpPr>
                      <p:cNvPr id="401" name=""/>
                      <p:cNvGrpSpPr/>
                      <p:nvPr/>
                    </p:nvGrpSpPr>
                    <p:grpSpPr>
                      <a:xfrm>
                        <a:off x="2934000" y="3761280"/>
                        <a:ext cx="492840" cy="245520"/>
                        <a:chOff x="2934000" y="3761280"/>
                        <a:chExt cx="492840" cy="245520"/>
                      </a:xfrm>
                    </p:grpSpPr>
                    <p:sp>
                      <p:nvSpPr>
                        <p:cNvPr id="402" name=""/>
                        <p:cNvSpPr/>
                        <p:nvPr/>
                      </p:nvSpPr>
                      <p:spPr>
                        <a:xfrm flipH="1">
                          <a:off x="2934360" y="4006800"/>
                          <a:ext cx="431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/>
                        <p:nvPr/>
                      </p:nvSpPr>
                      <p:spPr>
                        <a:xfrm flipH="1">
                          <a:off x="2934000" y="3761280"/>
                          <a:ext cx="492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04" name=""/>
                      <p:cNvSpPr/>
                      <p:nvPr/>
                    </p:nvSpPr>
                    <p:spPr>
                      <a:xfrm flipH="1">
                        <a:off x="2132640" y="382248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 flipH="1">
                        <a:off x="2132640" y="3945600"/>
                        <a:ext cx="801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 flipH="1">
                        <a:off x="1762920" y="400680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 flipH="1">
                        <a:off x="1762920" y="3761280"/>
                        <a:ext cx="369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8" name=""/>
                    <p:cNvGrpSpPr/>
                    <p:nvPr/>
                  </p:nvGrpSpPr>
                  <p:grpSpPr>
                    <a:xfrm>
                      <a:off x="2132640" y="3761280"/>
                      <a:ext cx="801360" cy="245520"/>
                      <a:chOff x="2132640" y="3761280"/>
                      <a:chExt cx="801360" cy="245520"/>
                    </a:xfrm>
                  </p:grpSpPr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2934000" y="39456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2934000" y="37612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2132640" y="376128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2132640" y="3945600"/>
                        <a:ext cx="0" cy="6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59360" y="1813680"/>
                <a:ext cx="4221720" cy="3710520"/>
                <a:chOff x="459360" y="1813680"/>
                <a:chExt cx="4221720" cy="371052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981000" y="1813680"/>
                  <a:ext cx="3105360" cy="3710520"/>
                  <a:chOff x="981000" y="1813680"/>
                  <a:chExt cx="3105360" cy="371052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981000" y="1813680"/>
                    <a:ext cx="432720" cy="1640880"/>
                    <a:chOff x="981000" y="1813680"/>
                    <a:chExt cx="432720" cy="1640880"/>
                  </a:xfrm>
                </p:grpSpPr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1125000" y="1813680"/>
                      <a:ext cx="288720" cy="1640880"/>
                      <a:chOff x="1125000" y="1813680"/>
                      <a:chExt cx="288720" cy="164088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 flipH="1">
                        <a:off x="1125000" y="181368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 flipH="1">
                        <a:off x="1125000" y="34545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1125000" y="1813680"/>
                        <a:ext cx="0" cy="164088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981000" y="259812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981000" y="3882960"/>
                    <a:ext cx="432720" cy="1641240"/>
                    <a:chOff x="981000" y="3882960"/>
                    <a:chExt cx="432720" cy="1641240"/>
                  </a:xfrm>
                </p:grpSpPr>
                <p:grpSp>
                  <p:nvGrpSpPr>
                    <p:cNvPr id="422" name=""/>
                    <p:cNvGrpSpPr/>
                    <p:nvPr/>
                  </p:nvGrpSpPr>
                  <p:grpSpPr>
                    <a:xfrm>
                      <a:off x="1125000" y="3882960"/>
                      <a:ext cx="288720" cy="1641240"/>
                      <a:chOff x="1125000" y="3882960"/>
                      <a:chExt cx="288720" cy="1641240"/>
                    </a:xfrm>
                  </p:grpSpPr>
                  <p:sp>
                    <p:nvSpPr>
                      <p:cNvPr id="423" name=""/>
                      <p:cNvSpPr/>
                      <p:nvPr/>
                    </p:nvSpPr>
                    <p:spPr>
                      <a:xfrm flipH="1">
                        <a:off x="1125000" y="38829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 flipH="1">
                        <a:off x="1125000" y="552420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1125000" y="3882960"/>
                        <a:ext cx="0" cy="164124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981000" y="473904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653640" y="3882960"/>
                    <a:ext cx="432720" cy="1641240"/>
                    <a:chOff x="3653640" y="3882960"/>
                    <a:chExt cx="432720" cy="1641240"/>
                  </a:xfrm>
                </p:grpSpPr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3653640" y="3882960"/>
                      <a:ext cx="288720" cy="1641240"/>
                      <a:chOff x="3653640" y="3882960"/>
                      <a:chExt cx="288720" cy="1641240"/>
                    </a:xfrm>
                  </p:grpSpPr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3653640" y="38829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3653640" y="552420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3942360" y="3882960"/>
                        <a:ext cx="0" cy="1641240"/>
                      </a:xfrm>
                      <a:prstGeom prst="line">
                        <a:avLst/>
                      </a:prstGeom>
                      <a:ln w="9360">
                        <a:solidFill>
                          <a:srgbClr val="cc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"/>
                    <p:cNvSpPr/>
                    <p:nvPr/>
                  </p:nvSpPr>
                  <p:spPr>
                    <a:xfrm flipH="1">
                      <a:off x="3942360" y="466776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cc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3653640" y="1813680"/>
                    <a:ext cx="432720" cy="1640880"/>
                    <a:chOff x="3653640" y="1813680"/>
                    <a:chExt cx="432720" cy="1640880"/>
                  </a:xfrm>
                </p:grpSpPr>
                <p:grpSp>
                  <p:nvGrpSpPr>
                    <p:cNvPr id="434" name=""/>
                    <p:cNvGrpSpPr/>
                    <p:nvPr/>
                  </p:nvGrpSpPr>
                  <p:grpSpPr>
                    <a:xfrm>
                      <a:off x="3653640" y="1813680"/>
                      <a:ext cx="288720" cy="1640880"/>
                      <a:chOff x="3653640" y="1813680"/>
                      <a:chExt cx="288720" cy="1640880"/>
                    </a:xfrm>
                  </p:grpSpPr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3653640" y="181368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3653640" y="3454560"/>
                        <a:ext cx="288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3942360" y="1813680"/>
                        <a:ext cx="0" cy="1640880"/>
                      </a:xfrm>
                      <a:prstGeom prst="line">
                        <a:avLst/>
                      </a:prstGeom>
                      <a:ln w="93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8" name=""/>
                    <p:cNvSpPr/>
                    <p:nvPr/>
                  </p:nvSpPr>
                  <p:spPr>
                    <a:xfrm flipH="1">
                      <a:off x="3942360" y="2669400"/>
                      <a:ext cx="1440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9" name=""/>
                <p:cNvSpPr/>
                <p:nvPr/>
              </p:nvSpPr>
              <p:spPr>
                <a:xfrm>
                  <a:off x="459360" y="2440800"/>
                  <a:ext cx="671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im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nsmit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00040" y="4579920"/>
                  <a:ext cx="589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im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eiv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009680" y="4525200"/>
                  <a:ext cx="671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mo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nsmit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034520" y="2512440"/>
                  <a:ext cx="6210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mo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ceive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1956600" y="914400"/>
              <a:ext cx="1122480" cy="276480"/>
              <a:chOff x="1956600" y="914400"/>
              <a:chExt cx="1122480" cy="276480"/>
            </a:xfrm>
          </p:grpSpPr>
          <p:sp>
            <p:nvSpPr>
              <p:cNvPr id="444" name=""/>
              <p:cNvSpPr/>
              <p:nvPr/>
            </p:nvSpPr>
            <p:spPr>
              <a:xfrm>
                <a:off x="1956600" y="914400"/>
                <a:ext cx="112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cc0000"/>
                    </a:solidFill>
                    <a:latin typeface="Times New Roman"/>
                  </a:rPr>
                  <a:t>Power Forwa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36600" y="1171440"/>
                <a:ext cx="79416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5486400" y="1295280"/>
            <a:ext cx="1447200" cy="1600200"/>
            <a:chOff x="5486400" y="1295280"/>
            <a:chExt cx="1447200" cy="1600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295280"/>
              <a:ext cx="1447200" cy="1600200"/>
              <a:chOff x="5486400" y="1295280"/>
              <a:chExt cx="1447200" cy="1600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562360" y="1295280"/>
                <a:ext cx="1294920" cy="160020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86400" y="1600200"/>
                <a:ext cx="151920" cy="15228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86400" y="2438280"/>
                <a:ext cx="151920" cy="15264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81320" y="2438280"/>
                <a:ext cx="152280" cy="15264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81320" y="1600200"/>
                <a:ext cx="152280" cy="152280"/>
              </a:xfrm>
              <a:prstGeom prst="ellipse">
                <a:avLst/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715000" y="1676520"/>
              <a:ext cx="9903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5912280" y="1721520"/>
              <a:ext cx="630000" cy="671400"/>
              <a:chOff x="5912280" y="1721520"/>
              <a:chExt cx="630000" cy="67140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5952240" y="1721520"/>
                <a:ext cx="590040" cy="5954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5912280" y="1761840"/>
                <a:ext cx="595440" cy="5896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5912640" y="1762560"/>
                <a:ext cx="595080" cy="5900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52240" y="1797840"/>
                <a:ext cx="590040" cy="5950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5715000" y="2514600"/>
              <a:ext cx="9903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640840" y="91440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wer 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954320" y="167652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54320" y="251460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88040" y="167652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88040" y="251460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or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3048120"/>
            <a:ext cx="38862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Times New Roman"/>
              </a:rPr>
              <a:t>Sti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Port 1 Connection Options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Port 3 Connection Op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2 – J5  For Prime Transmit Tx1N – Tx4N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 – K5 For Prime Transmit Tx1P – Tx4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sertion Loss And Far End Crosstal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2 Connection Options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4 Connection Option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– G5 For Remote Receive Rx1N – Rx4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 – H5 For Remote Receive Rx1P – Rx4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XT Measurements Made On Quiet Receive Line P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ear End Crosstal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2 Connection Option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 4 Connection Option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– G5 For Prime Receive Rx5N – Rx8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 – H5 For Prime Receive Rx5P – Rx8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Measurements Made On Quiet Receive Line P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6:47:21Z</dcterms:created>
  <dc:creator>dbrunker</dc:creator>
  <dc:description/>
  <dc:language>en-US</dc:language>
  <cp:lastModifiedBy>GOganessyan</cp:lastModifiedBy>
  <dcterms:modified xsi:type="dcterms:W3CDTF">2004-10-18T18:20:40Z</dcterms:modified>
  <cp:revision>1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56307923</vt:r8>
  </property>
  <property fmtid="{D5CDD505-2E9C-101B-9397-08002B2CF9AE}" pid="3" name="_AuthorEmail">
    <vt:lpwstr>David.McCallum@molex.com</vt:lpwstr>
  </property>
  <property fmtid="{D5CDD505-2E9C-101B-9397-08002B2CF9AE}" pid="4" name="_AuthorEmailDisplayName">
    <vt:lpwstr>McCallum, David</vt:lpwstr>
  </property>
  <property fmtid="{D5CDD505-2E9C-101B-9397-08002B2CF9AE}" pid="5" name="_EmailSubject">
    <vt:lpwstr>IEEE S-parameter release</vt:lpwstr>
  </property>
  <property fmtid="{D5CDD505-2E9C-101B-9397-08002B2CF9AE}" pid="6" name="_PreviousAdHocReviewCycleID">
    <vt:r8>-379369206</vt:r8>
  </property>
</Properties>
</file>